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9B76B-0DD8-4289-9124-DB9D61B5F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DC0D7-98E6-4F45-883A-506A17F68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FFA66-32EC-422B-A6F1-DA1A1D24F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10906-9DD5-4984-87FE-BDC3BD4A2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24C2E-8455-437D-892F-0B0412EE7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24246-3672-413C-A661-6A6E414C4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DBF74-DE07-4E4C-8CAD-8A9EBF26F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1C2FD-770A-470D-82DF-4F81C709F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F54C2-03A9-45BD-9205-DB7E17577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EBE24-B138-43DD-8555-77CA161C5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35B25-C709-42C1-B6E3-502525645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A89AA-6B7B-42BB-856E-8DE7C4967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E298E-95F7-4327-AA89-3DC6811A2F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image" Target="../media/image8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333360"/>
            <a:ext cx="77724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lution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826920" y="1125360"/>
            <a:ext cx="7560000" cy="5213520"/>
          </a:xfrm>
          <a:prstGeom prst="rect">
            <a:avLst/>
          </a:prstGeom>
          <a:ln w="0">
            <a:noFill/>
          </a:ln>
        </p:spPr>
      </p:pic>
      <p:grpSp>
        <p:nvGrpSpPr>
          <p:cNvPr id="43" name=""/>
          <p:cNvGrpSpPr/>
          <p:nvPr/>
        </p:nvGrpSpPr>
        <p:grpSpPr>
          <a:xfrm>
            <a:off x="1835280" y="1773360"/>
            <a:ext cx="2016000" cy="3095640"/>
            <a:chOff x="1835280" y="1773360"/>
            <a:chExt cx="2016000" cy="3095640"/>
          </a:xfrm>
        </p:grpSpPr>
        <p:sp>
          <p:nvSpPr>
            <p:cNvPr id="44" name=""/>
            <p:cNvSpPr/>
            <p:nvPr/>
          </p:nvSpPr>
          <p:spPr>
            <a:xfrm>
              <a:off x="1835280" y="1773360"/>
              <a:ext cx="1657080" cy="12952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843280" y="1844640"/>
              <a:ext cx="792000" cy="1152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 flipH="1">
              <a:off x="3635280" y="3789360"/>
              <a:ext cx="216000" cy="934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635280" y="4724280"/>
              <a:ext cx="73080" cy="144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" name=""/>
          <p:cNvGrpSpPr/>
          <p:nvPr/>
        </p:nvGrpSpPr>
        <p:grpSpPr>
          <a:xfrm>
            <a:off x="3924360" y="1773360"/>
            <a:ext cx="863280" cy="3095640"/>
            <a:chOff x="3924360" y="1773360"/>
            <a:chExt cx="863280" cy="3095640"/>
          </a:xfrm>
        </p:grpSpPr>
        <p:sp>
          <p:nvSpPr>
            <p:cNvPr id="49" name=""/>
            <p:cNvSpPr/>
            <p:nvPr/>
          </p:nvSpPr>
          <p:spPr>
            <a:xfrm>
              <a:off x="3924360" y="1773360"/>
              <a:ext cx="0" cy="122400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4140000" y="1844640"/>
              <a:ext cx="647640" cy="1152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924360" y="3860640"/>
              <a:ext cx="0" cy="100836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>
            <a:off x="1189800" y="907920"/>
            <a:ext cx="224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VLAN1 - 10.1.0.0/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94880" y="907920"/>
            <a:ext cx="224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VLAN2 - 10.2.0.0/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014520" y="907920"/>
            <a:ext cx="224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VLAN3 - 10.3.0.0/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3995640" y="1844640"/>
            <a:ext cx="3024000" cy="3024360"/>
            <a:chOff x="3995640" y="1844640"/>
            <a:chExt cx="3024000" cy="3024360"/>
          </a:xfrm>
        </p:grpSpPr>
        <p:sp>
          <p:nvSpPr>
            <p:cNvPr id="56" name=""/>
            <p:cNvSpPr/>
            <p:nvPr/>
          </p:nvSpPr>
          <p:spPr>
            <a:xfrm flipH="1">
              <a:off x="4427640" y="1844640"/>
              <a:ext cx="1512720" cy="1152720"/>
            </a:xfrm>
            <a:prstGeom prst="line">
              <a:avLst/>
            </a:prstGeom>
            <a:ln w="255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4716000" y="1844640"/>
              <a:ext cx="2303640" cy="1152720"/>
            </a:xfrm>
            <a:prstGeom prst="line">
              <a:avLst/>
            </a:prstGeom>
            <a:ln w="255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995640" y="3860640"/>
              <a:ext cx="216000" cy="863640"/>
            </a:xfrm>
            <a:prstGeom prst="line">
              <a:avLst/>
            </a:prstGeom>
            <a:ln w="255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>
              <a:off x="4140360" y="4653000"/>
              <a:ext cx="71280" cy="216000"/>
            </a:xfrm>
            <a:prstGeom prst="line">
              <a:avLst/>
            </a:prstGeom>
            <a:ln w="255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2702520" y="4581360"/>
            <a:ext cx="10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0.1.0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564000" y="4869000"/>
            <a:ext cx="115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10.2.0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213800" y="4581360"/>
            <a:ext cx="10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10.3.0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153040" y="364500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UCU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asserelle par défa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684360" y="4149720"/>
            <a:ext cx="7175520" cy="233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826920" y="1197000"/>
            <a:ext cx="7417080" cy="51926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9640" y="333360"/>
            <a:ext cx="77724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lution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1835280" y="1773360"/>
            <a:ext cx="1800000" cy="1295280"/>
            <a:chOff x="1835280" y="1773360"/>
            <a:chExt cx="1800000" cy="1295280"/>
          </a:xfrm>
        </p:grpSpPr>
        <p:sp>
          <p:nvSpPr>
            <p:cNvPr id="68" name=""/>
            <p:cNvSpPr/>
            <p:nvPr/>
          </p:nvSpPr>
          <p:spPr>
            <a:xfrm>
              <a:off x="1835280" y="1773360"/>
              <a:ext cx="1657080" cy="12952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43280" y="1844640"/>
              <a:ext cx="792000" cy="1152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924360" y="1773360"/>
            <a:ext cx="863280" cy="1224000"/>
            <a:chOff x="3924360" y="1773360"/>
            <a:chExt cx="863280" cy="1224000"/>
          </a:xfrm>
        </p:grpSpPr>
        <p:sp>
          <p:nvSpPr>
            <p:cNvPr id="71" name=""/>
            <p:cNvSpPr/>
            <p:nvPr/>
          </p:nvSpPr>
          <p:spPr>
            <a:xfrm>
              <a:off x="3924360" y="1773360"/>
              <a:ext cx="0" cy="122400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flipH="1">
              <a:off x="4140000" y="1844640"/>
              <a:ext cx="647640" cy="1152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1189800" y="907920"/>
            <a:ext cx="224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VLAN1 - 10.1.0.0/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494880" y="907920"/>
            <a:ext cx="224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VLAN2 - 10.2.0.0/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14520" y="907920"/>
            <a:ext cx="224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VLAN3 - 10.3.0.0/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4427640" y="1844640"/>
            <a:ext cx="2592000" cy="1152720"/>
            <a:chOff x="4427640" y="1844640"/>
            <a:chExt cx="2592000" cy="1152720"/>
          </a:xfrm>
        </p:grpSpPr>
        <p:sp>
          <p:nvSpPr>
            <p:cNvPr id="77" name=""/>
            <p:cNvSpPr/>
            <p:nvPr/>
          </p:nvSpPr>
          <p:spPr>
            <a:xfrm flipH="1">
              <a:off x="4427640" y="1844640"/>
              <a:ext cx="1512720" cy="1152720"/>
            </a:xfrm>
            <a:prstGeom prst="line">
              <a:avLst/>
            </a:prstGeom>
            <a:ln w="255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>
              <a:off x="4716000" y="1844640"/>
              <a:ext cx="2303640" cy="1152720"/>
            </a:xfrm>
            <a:prstGeom prst="line">
              <a:avLst/>
            </a:prstGeom>
            <a:ln w="255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"/>
          <p:cNvGrpSpPr/>
          <p:nvPr/>
        </p:nvGrpSpPr>
        <p:grpSpPr>
          <a:xfrm>
            <a:off x="3924360" y="3789360"/>
            <a:ext cx="0" cy="1077840"/>
            <a:chOff x="3924360" y="3789360"/>
            <a:chExt cx="0" cy="1077840"/>
          </a:xfrm>
        </p:grpSpPr>
        <p:sp>
          <p:nvSpPr>
            <p:cNvPr id="80" name=""/>
            <p:cNvSpPr/>
            <p:nvPr/>
          </p:nvSpPr>
          <p:spPr>
            <a:xfrm>
              <a:off x="3924360" y="3789360"/>
              <a:ext cx="0" cy="358920"/>
            </a:xfrm>
            <a:prstGeom prst="line">
              <a:avLst/>
            </a:prstGeom>
            <a:ln w="63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924360" y="4149720"/>
              <a:ext cx="0" cy="358920"/>
            </a:xfrm>
            <a:prstGeom prst="line">
              <a:avLst/>
            </a:prstGeom>
            <a:ln w="63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924360" y="4508640"/>
              <a:ext cx="0" cy="358560"/>
            </a:xfrm>
            <a:prstGeom prst="line">
              <a:avLst/>
            </a:prstGeom>
            <a:ln w="633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" name=""/>
          <p:cNvSpPr/>
          <p:nvPr/>
        </p:nvSpPr>
        <p:spPr>
          <a:xfrm>
            <a:off x="2702520" y="4581360"/>
            <a:ext cx="10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0.1.0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564000" y="4869000"/>
            <a:ext cx="115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10.2.0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142520" y="4508640"/>
            <a:ext cx="10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10.3.0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77640" y="409716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2.1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224320" y="386064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UCU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asserelle par défa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468360" y="4437000"/>
            <a:ext cx="7848720" cy="18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826920" y="1197000"/>
            <a:ext cx="7417080" cy="5192640"/>
          </a:xfrm>
          <a:prstGeom prst="rect">
            <a:avLst/>
          </a:prstGeom>
          <a:ln w="0">
            <a:noFill/>
          </a:ln>
        </p:spPr>
      </p:pic>
      <p:grpSp>
        <p:nvGrpSpPr>
          <p:cNvPr id="90" name=""/>
          <p:cNvGrpSpPr/>
          <p:nvPr/>
        </p:nvGrpSpPr>
        <p:grpSpPr>
          <a:xfrm>
            <a:off x="3924360" y="3573360"/>
            <a:ext cx="2734920" cy="1295640"/>
            <a:chOff x="3924360" y="3573360"/>
            <a:chExt cx="2734920" cy="1295640"/>
          </a:xfrm>
        </p:grpSpPr>
        <p:sp>
          <p:nvSpPr>
            <p:cNvPr id="91" name=""/>
            <p:cNvSpPr/>
            <p:nvPr/>
          </p:nvSpPr>
          <p:spPr>
            <a:xfrm>
              <a:off x="3924360" y="3789360"/>
              <a:ext cx="0" cy="1079640"/>
            </a:xfrm>
            <a:prstGeom prst="line">
              <a:avLst/>
            </a:prstGeom>
            <a:ln w="255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485600" y="3573360"/>
              <a:ext cx="2173680" cy="0"/>
            </a:xfrm>
            <a:prstGeom prst="line">
              <a:avLst/>
            </a:prstGeom>
            <a:ln w="255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"/>
          <p:cNvSpPr/>
          <p:nvPr/>
        </p:nvSpPr>
        <p:spPr>
          <a:xfrm>
            <a:off x="2918880" y="6308640"/>
            <a:ext cx="224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66"/>
                </a:solidFill>
                <a:latin typeface="Arial"/>
              </a:rPr>
              <a:t>VLAN4 - 10.4.0.0/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611280" y="5516640"/>
            <a:ext cx="7296120" cy="11523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468360" y="4005360"/>
            <a:ext cx="7853400" cy="26254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3997080" y="4508640"/>
            <a:ext cx="2581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66"/>
                </a:solidFill>
                <a:latin typeface="Arial"/>
              </a:rPr>
              <a:t>10.4.0.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66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660066"/>
                </a:solidFill>
                <a:latin typeface="Arial"/>
              </a:rPr>
              <a:t>Passerelle : 10.4.0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9640" y="333360"/>
            <a:ext cx="77724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lution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189800" y="907920"/>
            <a:ext cx="224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VLAN1 - 10.1.0.0/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494880" y="907920"/>
            <a:ext cx="224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VLAN2 - 10.2.0.0/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014520" y="907920"/>
            <a:ext cx="224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VLAN3 - 10.3.0.0/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869440" y="2708280"/>
            <a:ext cx="10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0.1.0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4"/>
          <a:stretch/>
        </p:blipFill>
        <p:spPr>
          <a:xfrm>
            <a:off x="6372360" y="3068640"/>
            <a:ext cx="1171440" cy="885960"/>
          </a:xfrm>
          <a:prstGeom prst="rect">
            <a:avLst/>
          </a:prstGeom>
          <a:ln w="0">
            <a:noFill/>
          </a:ln>
        </p:spPr>
      </p:pic>
      <p:grpSp>
        <p:nvGrpSpPr>
          <p:cNvPr id="103" name=""/>
          <p:cNvGrpSpPr/>
          <p:nvPr/>
        </p:nvGrpSpPr>
        <p:grpSpPr>
          <a:xfrm>
            <a:off x="1835280" y="1773360"/>
            <a:ext cx="4752720" cy="1368360"/>
            <a:chOff x="1835280" y="1773360"/>
            <a:chExt cx="4752720" cy="1368360"/>
          </a:xfrm>
        </p:grpSpPr>
        <p:sp>
          <p:nvSpPr>
            <p:cNvPr id="104" name=""/>
            <p:cNvSpPr/>
            <p:nvPr/>
          </p:nvSpPr>
          <p:spPr>
            <a:xfrm>
              <a:off x="1835280" y="1773360"/>
              <a:ext cx="1657080" cy="12952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843280" y="1844640"/>
              <a:ext cx="792000" cy="1152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932360" y="3141720"/>
              <a:ext cx="16556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"/>
          <p:cNvSpPr/>
          <p:nvPr/>
        </p:nvSpPr>
        <p:spPr>
          <a:xfrm>
            <a:off x="5798160" y="3645000"/>
            <a:ext cx="10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66"/>
                </a:solidFill>
                <a:latin typeface="Arial"/>
              </a:rPr>
              <a:t>10.4.0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3924360" y="1773360"/>
            <a:ext cx="2592360" cy="1511280"/>
            <a:chOff x="3924360" y="1773360"/>
            <a:chExt cx="2592360" cy="1511280"/>
          </a:xfrm>
        </p:grpSpPr>
        <p:sp>
          <p:nvSpPr>
            <p:cNvPr id="109" name=""/>
            <p:cNvSpPr/>
            <p:nvPr/>
          </p:nvSpPr>
          <p:spPr>
            <a:xfrm>
              <a:off x="3924360" y="1773360"/>
              <a:ext cx="0" cy="122400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 flipH="1">
              <a:off x="4140000" y="1844640"/>
              <a:ext cx="647640" cy="1152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788000" y="3284640"/>
              <a:ext cx="172872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4427640" y="1844640"/>
            <a:ext cx="2592000" cy="1584360"/>
            <a:chOff x="4427640" y="1844640"/>
            <a:chExt cx="2592000" cy="1584360"/>
          </a:xfrm>
        </p:grpSpPr>
        <p:sp>
          <p:nvSpPr>
            <p:cNvPr id="113" name=""/>
            <p:cNvSpPr/>
            <p:nvPr/>
          </p:nvSpPr>
          <p:spPr>
            <a:xfrm flipH="1">
              <a:off x="4427640" y="1844640"/>
              <a:ext cx="1512720" cy="1152720"/>
            </a:xfrm>
            <a:prstGeom prst="line">
              <a:avLst/>
            </a:prstGeom>
            <a:ln w="255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4716000" y="1844640"/>
              <a:ext cx="2303640" cy="1152720"/>
            </a:xfrm>
            <a:prstGeom prst="line">
              <a:avLst/>
            </a:prstGeom>
            <a:ln w="255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 flipH="1">
              <a:off x="4643280" y="3429000"/>
              <a:ext cx="1944720" cy="0"/>
            </a:xfrm>
            <a:prstGeom prst="line">
              <a:avLst/>
            </a:prstGeom>
            <a:ln w="255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7236000" y="2997360"/>
            <a:ext cx="115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10.2.0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310880" y="3357720"/>
            <a:ext cx="10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10.3.0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826920" y="1197000"/>
            <a:ext cx="7417080" cy="519264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3924360" y="3789360"/>
            <a:ext cx="0" cy="1079640"/>
          </a:xfrm>
          <a:prstGeom prst="line">
            <a:avLst/>
          </a:prstGeom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997440" y="4508640"/>
            <a:ext cx="255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66"/>
                </a:solidFill>
                <a:latin typeface="Arial"/>
              </a:rPr>
              <a:t>10.4.0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66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660066"/>
                </a:solidFill>
                <a:latin typeface="Arial"/>
              </a:rPr>
              <a:t>passerelle : 10.4.0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918880" y="6308640"/>
            <a:ext cx="224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66"/>
                </a:solidFill>
                <a:latin typeface="Arial"/>
              </a:rPr>
              <a:t>VLAN4 - 10.4.0.0/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11280" y="5516640"/>
            <a:ext cx="7296120" cy="11523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900000" y="3933720"/>
            <a:ext cx="6813720" cy="25686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9640" y="333360"/>
            <a:ext cx="77724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lution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189800" y="907920"/>
            <a:ext cx="224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VLAN1 - 10.1.0.0/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494880" y="907920"/>
            <a:ext cx="224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VLAN2 - 10.2.0.0/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520" y="907920"/>
            <a:ext cx="224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VLAN3 - 10.3.0.0/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734880" y="2708280"/>
            <a:ext cx="10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0.1.0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4"/>
          <a:stretch/>
        </p:blipFill>
        <p:spPr>
          <a:xfrm>
            <a:off x="6372360" y="3068640"/>
            <a:ext cx="1171440" cy="885960"/>
          </a:xfrm>
          <a:prstGeom prst="rect">
            <a:avLst/>
          </a:prstGeom>
          <a:ln w="0">
            <a:noFill/>
          </a:ln>
        </p:spPr>
      </p:pic>
      <p:grpSp>
        <p:nvGrpSpPr>
          <p:cNvPr id="130" name=""/>
          <p:cNvGrpSpPr/>
          <p:nvPr/>
        </p:nvGrpSpPr>
        <p:grpSpPr>
          <a:xfrm>
            <a:off x="1835280" y="1773360"/>
            <a:ext cx="1800000" cy="1295280"/>
            <a:chOff x="1835280" y="1773360"/>
            <a:chExt cx="1800000" cy="1295280"/>
          </a:xfrm>
        </p:grpSpPr>
        <p:sp>
          <p:nvSpPr>
            <p:cNvPr id="131" name=""/>
            <p:cNvSpPr/>
            <p:nvPr/>
          </p:nvSpPr>
          <p:spPr>
            <a:xfrm>
              <a:off x="1835280" y="1773360"/>
              <a:ext cx="1657080" cy="12952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843280" y="1844640"/>
              <a:ext cx="792000" cy="1152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7095240" y="3716280"/>
            <a:ext cx="10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66"/>
                </a:solidFill>
                <a:latin typeface="Arial"/>
              </a:rPr>
              <a:t>10.4.0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924360" y="1773360"/>
            <a:ext cx="863280" cy="1224000"/>
            <a:chOff x="3924360" y="1773360"/>
            <a:chExt cx="863280" cy="1224000"/>
          </a:xfrm>
        </p:grpSpPr>
        <p:sp>
          <p:nvSpPr>
            <p:cNvPr id="135" name=""/>
            <p:cNvSpPr/>
            <p:nvPr/>
          </p:nvSpPr>
          <p:spPr>
            <a:xfrm>
              <a:off x="3924360" y="1773360"/>
              <a:ext cx="0" cy="122400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 flipH="1">
              <a:off x="4140000" y="1844640"/>
              <a:ext cx="647640" cy="1152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4427640" y="1844640"/>
            <a:ext cx="2592000" cy="1152720"/>
            <a:chOff x="4427640" y="1844640"/>
            <a:chExt cx="2592000" cy="1152720"/>
          </a:xfrm>
        </p:grpSpPr>
        <p:sp>
          <p:nvSpPr>
            <p:cNvPr id="138" name=""/>
            <p:cNvSpPr/>
            <p:nvPr/>
          </p:nvSpPr>
          <p:spPr>
            <a:xfrm flipH="1">
              <a:off x="4427640" y="1844640"/>
              <a:ext cx="1512720" cy="1152720"/>
            </a:xfrm>
            <a:prstGeom prst="line">
              <a:avLst/>
            </a:prstGeom>
            <a:ln w="255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flipH="1">
              <a:off x="4716000" y="1844640"/>
              <a:ext cx="2303640" cy="1152720"/>
            </a:xfrm>
            <a:prstGeom prst="line">
              <a:avLst/>
            </a:prstGeom>
            <a:ln w="255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4427640" y="3573360"/>
            <a:ext cx="2089080" cy="0"/>
            <a:chOff x="4427640" y="3573360"/>
            <a:chExt cx="2089080" cy="0"/>
          </a:xfrm>
        </p:grpSpPr>
        <p:sp>
          <p:nvSpPr>
            <p:cNvPr id="141" name=""/>
            <p:cNvSpPr/>
            <p:nvPr/>
          </p:nvSpPr>
          <p:spPr>
            <a:xfrm>
              <a:off x="4427640" y="3573360"/>
              <a:ext cx="431640" cy="0"/>
            </a:xfrm>
            <a:prstGeom prst="line">
              <a:avLst/>
            </a:prstGeom>
            <a:ln w="63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859280" y="3573360"/>
              <a:ext cx="504720" cy="0"/>
            </a:xfrm>
            <a:prstGeom prst="line">
              <a:avLst/>
            </a:prstGeom>
            <a:ln w="63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5363640" y="3573360"/>
              <a:ext cx="576360" cy="0"/>
            </a:xfrm>
            <a:prstGeom prst="line">
              <a:avLst/>
            </a:prstGeom>
            <a:ln w="633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940360" y="3573360"/>
              <a:ext cx="576360" cy="0"/>
            </a:xfrm>
            <a:prstGeom prst="line">
              <a:avLst/>
            </a:prstGeom>
            <a:ln w="63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7164360" y="2997360"/>
            <a:ext cx="115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10.2.0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310880" y="3357720"/>
            <a:ext cx="10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10.3.0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130000" y="323208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2.1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6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826920" y="1197000"/>
            <a:ext cx="7417080" cy="519264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2703600" y="3860640"/>
            <a:ext cx="23616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utateur-route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924360" y="3789360"/>
            <a:ext cx="0" cy="1079640"/>
          </a:xfrm>
          <a:prstGeom prst="line">
            <a:avLst/>
          </a:prstGeom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997440" y="4508640"/>
            <a:ext cx="255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66"/>
                </a:solidFill>
                <a:latin typeface="Arial"/>
              </a:rPr>
              <a:t>10.4.0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66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660066"/>
                </a:solidFill>
                <a:latin typeface="Arial"/>
              </a:rPr>
              <a:t>passerelle : 10.4.0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918880" y="6308640"/>
            <a:ext cx="224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66"/>
                </a:solidFill>
                <a:latin typeface="Arial"/>
              </a:rPr>
              <a:t>VLAN4 - 10.4.0.0/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11280" y="5516640"/>
            <a:ext cx="7296120" cy="115236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3"/>
          <a:stretch/>
        </p:blipFill>
        <p:spPr>
          <a:xfrm>
            <a:off x="611280" y="3933720"/>
            <a:ext cx="7235640" cy="274644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9640" y="333360"/>
            <a:ext cx="77724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lution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189800" y="907920"/>
            <a:ext cx="224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VLAN1 - 10.1.0.0/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494880" y="907920"/>
            <a:ext cx="224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VLAN2 - 10.2.0.0/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4520" y="907920"/>
            <a:ext cx="224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VLAN3 - 10.3.0.0/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6160" y="2997360"/>
            <a:ext cx="179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Vlan1 - 10.1.0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1835280" y="1773360"/>
            <a:ext cx="1800000" cy="1295280"/>
            <a:chOff x="1835280" y="1773360"/>
            <a:chExt cx="1800000" cy="1295280"/>
          </a:xfrm>
        </p:grpSpPr>
        <p:sp>
          <p:nvSpPr>
            <p:cNvPr id="161" name=""/>
            <p:cNvSpPr/>
            <p:nvPr/>
          </p:nvSpPr>
          <p:spPr>
            <a:xfrm>
              <a:off x="1835280" y="1773360"/>
              <a:ext cx="1657080" cy="12952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843280" y="1844640"/>
              <a:ext cx="792000" cy="1152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3422160" y="3500280"/>
            <a:ext cx="179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66"/>
                </a:solidFill>
                <a:latin typeface="Arial"/>
              </a:rPr>
              <a:t>Vlan4 - 10.4.0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3924360" y="1773360"/>
            <a:ext cx="863280" cy="1224000"/>
            <a:chOff x="3924360" y="1773360"/>
            <a:chExt cx="863280" cy="1224000"/>
          </a:xfrm>
        </p:grpSpPr>
        <p:sp>
          <p:nvSpPr>
            <p:cNvPr id="165" name=""/>
            <p:cNvSpPr/>
            <p:nvPr/>
          </p:nvSpPr>
          <p:spPr>
            <a:xfrm>
              <a:off x="3924360" y="1773360"/>
              <a:ext cx="0" cy="122400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4140000" y="1844640"/>
              <a:ext cx="647640" cy="1152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4427640" y="1844640"/>
            <a:ext cx="2592000" cy="1152720"/>
            <a:chOff x="4427640" y="1844640"/>
            <a:chExt cx="2592000" cy="1152720"/>
          </a:xfrm>
        </p:grpSpPr>
        <p:sp>
          <p:nvSpPr>
            <p:cNvPr id="168" name=""/>
            <p:cNvSpPr/>
            <p:nvPr/>
          </p:nvSpPr>
          <p:spPr>
            <a:xfrm flipH="1">
              <a:off x="4427640" y="1844640"/>
              <a:ext cx="1512720" cy="1152720"/>
            </a:xfrm>
            <a:prstGeom prst="line">
              <a:avLst/>
            </a:prstGeom>
            <a:ln w="255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4716000" y="1844640"/>
              <a:ext cx="2303640" cy="1152720"/>
            </a:xfrm>
            <a:prstGeom prst="line">
              <a:avLst/>
            </a:prstGeom>
            <a:ln w="255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3635280" y="2492280"/>
            <a:ext cx="10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Vlan2 10.2.0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5800" y="2924280"/>
            <a:ext cx="179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Vlan3 - 10.3.0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1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3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1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826920" y="1197000"/>
            <a:ext cx="7417080" cy="519264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39640" y="333360"/>
            <a:ext cx="77724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lution 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1835280" y="1773360"/>
            <a:ext cx="1800000" cy="1295280"/>
            <a:chOff x="1835280" y="1773360"/>
            <a:chExt cx="1800000" cy="1295280"/>
          </a:xfrm>
        </p:grpSpPr>
        <p:sp>
          <p:nvSpPr>
            <p:cNvPr id="175" name=""/>
            <p:cNvSpPr/>
            <p:nvPr/>
          </p:nvSpPr>
          <p:spPr>
            <a:xfrm>
              <a:off x="1835280" y="1773360"/>
              <a:ext cx="1657080" cy="12952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843280" y="1844640"/>
              <a:ext cx="792000" cy="1152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3924360" y="1773360"/>
            <a:ext cx="863280" cy="1224000"/>
            <a:chOff x="3924360" y="1773360"/>
            <a:chExt cx="863280" cy="1224000"/>
          </a:xfrm>
        </p:grpSpPr>
        <p:sp>
          <p:nvSpPr>
            <p:cNvPr id="178" name=""/>
            <p:cNvSpPr/>
            <p:nvPr/>
          </p:nvSpPr>
          <p:spPr>
            <a:xfrm>
              <a:off x="3924360" y="1773360"/>
              <a:ext cx="0" cy="122400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 flipH="1">
              <a:off x="4140000" y="1844640"/>
              <a:ext cx="647640" cy="1152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0" name=""/>
          <p:cNvSpPr/>
          <p:nvPr/>
        </p:nvSpPr>
        <p:spPr>
          <a:xfrm>
            <a:off x="1189800" y="907920"/>
            <a:ext cx="9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VLAN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494880" y="907920"/>
            <a:ext cx="9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VLAN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014160" y="907920"/>
            <a:ext cx="9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VLAN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4427640" y="1844640"/>
            <a:ext cx="2592000" cy="1152720"/>
            <a:chOff x="4427640" y="1844640"/>
            <a:chExt cx="2592000" cy="1152720"/>
          </a:xfrm>
        </p:grpSpPr>
        <p:sp>
          <p:nvSpPr>
            <p:cNvPr id="184" name=""/>
            <p:cNvSpPr/>
            <p:nvPr/>
          </p:nvSpPr>
          <p:spPr>
            <a:xfrm flipH="1">
              <a:off x="4427640" y="1844640"/>
              <a:ext cx="1512720" cy="1152720"/>
            </a:xfrm>
            <a:prstGeom prst="line">
              <a:avLst/>
            </a:prstGeom>
            <a:ln w="255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4716000" y="1844640"/>
              <a:ext cx="2303640" cy="1152720"/>
            </a:xfrm>
            <a:prstGeom prst="line">
              <a:avLst/>
            </a:prstGeom>
            <a:ln w="255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5224320" y="3500280"/>
            <a:ext cx="333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U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eul réseau IP 10.1.0.0/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UCU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asserelle par défa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494880" y="6308640"/>
            <a:ext cx="9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66"/>
                </a:solidFill>
                <a:latin typeface="Arial"/>
              </a:rPr>
              <a:t>VLAN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3995640" y="3789360"/>
            <a:ext cx="0" cy="1079640"/>
            <a:chOff x="3995640" y="3789360"/>
            <a:chExt cx="0" cy="1079640"/>
          </a:xfrm>
        </p:grpSpPr>
        <p:sp>
          <p:nvSpPr>
            <p:cNvPr id="189" name=""/>
            <p:cNvSpPr/>
            <p:nvPr/>
          </p:nvSpPr>
          <p:spPr>
            <a:xfrm>
              <a:off x="3995640" y="3789360"/>
              <a:ext cx="0" cy="360360"/>
            </a:xfrm>
            <a:prstGeom prst="line">
              <a:avLst/>
            </a:prstGeom>
            <a:ln w="63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995640" y="4149720"/>
              <a:ext cx="0" cy="431640"/>
            </a:xfrm>
            <a:prstGeom prst="line">
              <a:avLst/>
            </a:prstGeom>
            <a:ln w="63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995640" y="4508640"/>
              <a:ext cx="0" cy="360360"/>
            </a:xfrm>
            <a:prstGeom prst="line">
              <a:avLst/>
            </a:prstGeom>
            <a:ln w="63360">
              <a:solidFill>
                <a:srgbClr val="3399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"/>
          <p:cNvSpPr/>
          <p:nvPr/>
        </p:nvSpPr>
        <p:spPr>
          <a:xfrm>
            <a:off x="3924360" y="3789360"/>
            <a:ext cx="0" cy="1079640"/>
          </a:xfrm>
          <a:prstGeom prst="line">
            <a:avLst/>
          </a:prstGeom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1763640" y="1844280"/>
            <a:ext cx="5329440" cy="1224360"/>
            <a:chOff x="1763640" y="1844280"/>
            <a:chExt cx="5329440" cy="1224360"/>
          </a:xfrm>
        </p:grpSpPr>
        <p:sp>
          <p:nvSpPr>
            <p:cNvPr id="194" name=""/>
            <p:cNvSpPr/>
            <p:nvPr/>
          </p:nvSpPr>
          <p:spPr>
            <a:xfrm flipH="1" flipV="1">
              <a:off x="1763640" y="1844640"/>
              <a:ext cx="1656000" cy="1224000"/>
            </a:xfrm>
            <a:prstGeom prst="line">
              <a:avLst/>
            </a:prstGeom>
            <a:ln w="38160">
              <a:solidFill>
                <a:srgbClr val="80008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flipH="1" flipV="1">
              <a:off x="2771280" y="1844640"/>
              <a:ext cx="792360" cy="1152720"/>
            </a:xfrm>
            <a:prstGeom prst="line">
              <a:avLst/>
            </a:prstGeom>
            <a:ln w="38160">
              <a:solidFill>
                <a:srgbClr val="80008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flipV="1">
              <a:off x="3851280" y="1844280"/>
              <a:ext cx="0" cy="1079640"/>
            </a:xfrm>
            <a:prstGeom prst="line">
              <a:avLst/>
            </a:prstGeom>
            <a:ln w="38160">
              <a:solidFill>
                <a:srgbClr val="80008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flipV="1">
              <a:off x="4067280" y="1844640"/>
              <a:ext cx="649080" cy="1152720"/>
            </a:xfrm>
            <a:prstGeom prst="line">
              <a:avLst/>
            </a:prstGeom>
            <a:ln w="38160">
              <a:solidFill>
                <a:srgbClr val="80008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4427640" y="1844280"/>
              <a:ext cx="1368360" cy="1079640"/>
            </a:xfrm>
            <a:prstGeom prst="line">
              <a:avLst/>
            </a:prstGeom>
            <a:ln w="38160">
              <a:solidFill>
                <a:srgbClr val="80008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4859280" y="1844640"/>
              <a:ext cx="2233800" cy="1152720"/>
            </a:xfrm>
            <a:prstGeom prst="line">
              <a:avLst/>
            </a:prstGeom>
            <a:ln w="38160">
              <a:solidFill>
                <a:srgbClr val="80008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0" name=""/>
          <p:cNvSpPr/>
          <p:nvPr/>
        </p:nvSpPr>
        <p:spPr>
          <a:xfrm>
            <a:off x="4142520" y="4292640"/>
            <a:ext cx="261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Diffus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les vl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1, 2 e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902880" y="2565360"/>
            <a:ext cx="180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66"/>
                </a:solidFill>
                <a:latin typeface="Arial"/>
              </a:rPr>
              <a:t>Diffuse le vlan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539640" y="4149720"/>
            <a:ext cx="8109000" cy="211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2" dur="indefinite" restart="never" nodeType="tmRoot">
          <p:childTnLst>
            <p:seq>
              <p:cTn id="503" dur="indefinite" nodeType="mainSeq">
                <p:childTnLst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1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2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5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2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1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826920" y="1197000"/>
            <a:ext cx="7417080" cy="5192640"/>
          </a:xfrm>
          <a:prstGeom prst="rect">
            <a:avLst/>
          </a:prstGeom>
          <a:ln w="0">
            <a:noFill/>
          </a:ln>
        </p:spPr>
      </p:pic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39640" y="333360"/>
            <a:ext cx="77724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lution 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1835280" y="1773360"/>
            <a:ext cx="2089080" cy="3095640"/>
            <a:chOff x="1835280" y="1773360"/>
            <a:chExt cx="2089080" cy="3095640"/>
          </a:xfrm>
        </p:grpSpPr>
        <p:sp>
          <p:nvSpPr>
            <p:cNvPr id="206" name=""/>
            <p:cNvSpPr/>
            <p:nvPr/>
          </p:nvSpPr>
          <p:spPr>
            <a:xfrm>
              <a:off x="1835280" y="1773360"/>
              <a:ext cx="2089080" cy="1511280"/>
            </a:xfrm>
            <a:prstGeom prst="line">
              <a:avLst/>
            </a:prstGeom>
            <a:ln w="63360">
              <a:solidFill>
                <a:srgbClr val="008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24360" y="3284640"/>
              <a:ext cx="0" cy="1584360"/>
            </a:xfrm>
            <a:prstGeom prst="line">
              <a:avLst/>
            </a:prstGeom>
            <a:ln w="633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2843280" y="1773360"/>
            <a:ext cx="1081080" cy="1584360"/>
            <a:chOff x="2843280" y="1773360"/>
            <a:chExt cx="1081080" cy="1584360"/>
          </a:xfrm>
        </p:grpSpPr>
        <p:sp>
          <p:nvSpPr>
            <p:cNvPr id="209" name=""/>
            <p:cNvSpPr/>
            <p:nvPr/>
          </p:nvSpPr>
          <p:spPr>
            <a:xfrm>
              <a:off x="2843280" y="1773360"/>
              <a:ext cx="1081080" cy="1584360"/>
            </a:xfrm>
            <a:prstGeom prst="line">
              <a:avLst/>
            </a:prstGeom>
            <a:ln w="63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924360" y="1844640"/>
              <a:ext cx="0" cy="1513080"/>
            </a:xfrm>
            <a:prstGeom prst="line">
              <a:avLst/>
            </a:prstGeom>
            <a:ln w="63360">
              <a:solidFill>
                <a:srgbClr val="0000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2987640" y="2133720"/>
            <a:ext cx="1223640" cy="1008000"/>
            <a:chOff x="2987640" y="2133720"/>
            <a:chExt cx="1223640" cy="1008000"/>
          </a:xfrm>
        </p:grpSpPr>
        <p:sp>
          <p:nvSpPr>
            <p:cNvPr id="212" name=""/>
            <p:cNvSpPr/>
            <p:nvPr/>
          </p:nvSpPr>
          <p:spPr>
            <a:xfrm flipH="1">
              <a:off x="3131640" y="2133720"/>
              <a:ext cx="1079640" cy="1008000"/>
            </a:xfrm>
            <a:prstGeom prst="line">
              <a:avLst/>
            </a:prstGeom>
            <a:ln w="127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 flipH="1" flipV="1">
              <a:off x="2987640" y="2204640"/>
              <a:ext cx="1152720" cy="863640"/>
            </a:xfrm>
            <a:prstGeom prst="line">
              <a:avLst/>
            </a:prstGeom>
            <a:ln w="127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" name=""/>
          <p:cNvSpPr/>
          <p:nvPr/>
        </p:nvSpPr>
        <p:spPr>
          <a:xfrm>
            <a:off x="1189440" y="2637000"/>
            <a:ext cx="150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fic inter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2916360" y="2728800"/>
            <a:ext cx="4373640" cy="412920"/>
            <a:chOff x="2916360" y="2728800"/>
            <a:chExt cx="4373640" cy="412920"/>
          </a:xfrm>
        </p:grpSpPr>
        <p:sp>
          <p:nvSpPr>
            <p:cNvPr id="216" name=""/>
            <p:cNvSpPr/>
            <p:nvPr/>
          </p:nvSpPr>
          <p:spPr>
            <a:xfrm>
              <a:off x="2916360" y="2781360"/>
              <a:ext cx="2447640" cy="360360"/>
            </a:xfrm>
            <a:prstGeom prst="ellipse">
              <a:avLst/>
            </a:prstGeom>
            <a:noFill/>
            <a:ln w="63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346000" y="2728800"/>
              <a:ext cx="19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0000"/>
                  </a:solidFill>
                  <a:latin typeface="Arial"/>
                </a:rPr>
                <a:t>Ports « isolated 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" name=""/>
          <p:cNvSpPr/>
          <p:nvPr/>
        </p:nvSpPr>
        <p:spPr>
          <a:xfrm>
            <a:off x="1694880" y="407664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fic autoris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3635280" y="3645000"/>
            <a:ext cx="3040200" cy="388800"/>
            <a:chOff x="3635280" y="3645000"/>
            <a:chExt cx="3040200" cy="388800"/>
          </a:xfrm>
        </p:grpSpPr>
        <p:sp>
          <p:nvSpPr>
            <p:cNvPr id="220" name=""/>
            <p:cNvSpPr/>
            <p:nvPr/>
          </p:nvSpPr>
          <p:spPr>
            <a:xfrm>
              <a:off x="3635280" y="3645000"/>
              <a:ext cx="576360" cy="360360"/>
            </a:xfrm>
            <a:prstGeom prst="ellipse">
              <a:avLst/>
            </a:prstGeom>
            <a:noFill/>
            <a:ln w="63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338360" y="3665520"/>
              <a:ext cx="233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8000"/>
                  </a:solidFill>
                  <a:latin typeface="Arial"/>
                </a:rPr>
                <a:t>Port « promiscuous 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5153040" y="4076640"/>
            <a:ext cx="3336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U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eul V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U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eul réseau IP 10.1.0.0/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UCU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asserelle par défa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468360" y="4149720"/>
            <a:ext cx="7827840" cy="20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6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3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5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8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826920" y="1197000"/>
            <a:ext cx="7417080" cy="5192640"/>
          </a:xfrm>
          <a:prstGeom prst="rect">
            <a:avLst/>
          </a:prstGeom>
          <a:ln w="0">
            <a:noFill/>
          </a:ln>
        </p:spPr>
      </p:pic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39640" y="333360"/>
            <a:ext cx="77724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lution 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703600" y="907920"/>
            <a:ext cx="350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Arial"/>
              </a:rPr>
              <a:t>VLAN1 « protected » 10.1.0.0/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918880" y="6308640"/>
            <a:ext cx="224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VLAN2 - 10.2.0.0/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334520" y="3284640"/>
            <a:ext cx="179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Vlan1 - 10.1.0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32360" y="321300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99"/>
                </a:solidFill>
                <a:latin typeface="Arial"/>
              </a:rPr>
              <a:t>Vlan2 - 10.2.0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358880" y="4653000"/>
            <a:ext cx="226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10.2.0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asserelle : 10.2.0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703600" y="3860640"/>
            <a:ext cx="23616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utateur-route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1835280" y="1773360"/>
            <a:ext cx="5184720" cy="1295280"/>
            <a:chOff x="1835280" y="1773360"/>
            <a:chExt cx="5184720" cy="1295280"/>
          </a:xfrm>
        </p:grpSpPr>
        <p:sp>
          <p:nvSpPr>
            <p:cNvPr id="233" name=""/>
            <p:cNvSpPr/>
            <p:nvPr/>
          </p:nvSpPr>
          <p:spPr>
            <a:xfrm>
              <a:off x="1835280" y="1773360"/>
              <a:ext cx="1657080" cy="12952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843280" y="1844640"/>
              <a:ext cx="792000" cy="1152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924360" y="1844640"/>
              <a:ext cx="0" cy="10796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 flipH="1">
              <a:off x="4211280" y="1844640"/>
              <a:ext cx="576360" cy="10796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 flipH="1">
              <a:off x="4500720" y="1844640"/>
              <a:ext cx="1366560" cy="10796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 flipH="1">
              <a:off x="4788000" y="1844640"/>
              <a:ext cx="2232000" cy="10796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9" name=""/>
          <p:cNvSpPr/>
          <p:nvPr/>
        </p:nvSpPr>
        <p:spPr>
          <a:xfrm>
            <a:off x="3924360" y="3789360"/>
            <a:ext cx="0" cy="10796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83240" y="4437000"/>
            <a:ext cx="31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ègles de filtrage :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UCU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2"/>
          <a:stretch/>
        </p:blipFill>
        <p:spPr>
          <a:xfrm>
            <a:off x="539640" y="3860640"/>
            <a:ext cx="7483680" cy="25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7" dur="indefinite" restart="never" nodeType="tmRoot">
          <p:childTnLst>
            <p:seq>
              <p:cTn id="668" dur="indefinite" nodeType="mainSeq">
                <p:childTnLst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6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1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0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2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9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7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9T19:55:28Z</dcterms:created>
  <dc:creator>Daniel Regnier</dc:creator>
  <dc:description/>
  <dc:language>en-US</dc:language>
  <cp:lastModifiedBy>lycee paul Claudel</cp:lastModifiedBy>
  <dcterms:modified xsi:type="dcterms:W3CDTF">2011-01-26T14:53:42Z</dcterms:modified>
  <cp:revision>30</cp:revision>
  <dc:subject/>
  <dc:title>Exonet</dc:title>
</cp:coreProperties>
</file>