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BC7-9E3B-4896-8F33-B9248B7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478-E7B8-471E-9220-DBE68B4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9C2-531D-4E8F-A5DF-A90372E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960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52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168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960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52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26B-59C0-42E0-B7EE-FEBDC286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F0-C1F8-4557-B160-934E604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2AF-2ADF-4511-BE9A-624164B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545-6C7C-439B-8DD8-B31B423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834-C6C9-4E15-AEB8-334B018A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1680" y="1006200"/>
            <a:ext cx="1359864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539-42CD-49F3-B978-06B44C7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191-1DAA-4CDE-9909-CAD7FB8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F54-CBF7-428F-A27F-C5EE0C4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915-3532-4AC3-A54A-9928719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132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5880" y="10308960"/>
            <a:ext cx="507024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600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5E0CB63F-F800-49F3-BF77-F1FDD2ED2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9360" y="6162840"/>
            <a:ext cx="2438640" cy="1584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value-o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ermet d’extraire du document XML le contenu de la balise sélectionnée par l’attribut </a:t>
            </a:r>
            <a:r>
              <a:rPr b="1" lang="fr-FR" sz="1200" spc="-1" strike="noStrike">
                <a:solidFill>
                  <a:srgbClr val="990000"/>
                </a:solidFill>
                <a:latin typeface="Verdana"/>
              </a:rPr>
              <a:t>selec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(ici 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")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’est-à-dire, successivement, les noms des modèles d’avions : «123», «123xml» et «123xml Stretch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09360" y="4545000"/>
            <a:ext cx="2438640" cy="140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for-each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it une boucle sur l’ensemble des nœuds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l y en a 3)  en exécutant à chaque boucle les instructions situées avant sa balise de fermeture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/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xsl:for-each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8640" y="1265400"/>
            <a:ext cx="14238360" cy="13172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Principe de la transformation 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Le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S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permet d’associer les balises d’un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M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à du cod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HTML 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dans le but de présenter l’information contenue dans le document XML. Les balises XSL sont associées à l’espace de noms « xsl: » On y trouve aussi des éléments de langag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path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qui permet de définir la position des noeuds en indiquant leur chemin dans l’arborescence XML.  Ici, des modèles d’avions sont présentés dans un tableau HTML. Pour chaque modèle d’avion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jaune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 on affiche son nom en gras (balise HTML 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b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Ensuite, pour chaque caractéristique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 bleu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, on ajoute une ligne (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tr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)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au tableau, en affichant d’abord le nom de la caractéristique (en clair dans le document XSL) dans une première colonne, puis, pour chaque modèle, la valeur de cette caractéristique dans une nouvelle colonne (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td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Ainsi de suite pour toutes les caractéristiques</a:t>
            </a:r>
            <a:r>
              <a:rPr b="0" lang="fr-FR" sz="1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9240" y="185760"/>
            <a:ext cx="5862960" cy="914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 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09360" y="2921040"/>
            <a:ext cx="2438640" cy="1432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Quelques balises XSLT</a:t>
            </a: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template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contient les transformations à appliquer quand le nœud spécifié par l’attribut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 match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ci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s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) est rencontré dans le code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5560" y="2921040"/>
            <a:ext cx="5616360" cy="4720680"/>
            <a:chOff x="655560" y="2921040"/>
            <a:chExt cx="5616360" cy="4720680"/>
          </a:xfrm>
        </p:grpSpPr>
        <p:sp>
          <p:nvSpPr>
            <p:cNvPr id="47" name=""/>
            <p:cNvSpPr/>
            <p:nvPr/>
          </p:nvSpPr>
          <p:spPr>
            <a:xfrm>
              <a:off x="655560" y="2921040"/>
              <a:ext cx="5616360" cy="4720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ML contenant les informations sur des modèles d’avions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10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52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5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E, P+W, and R-R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30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.85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1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87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xm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43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8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     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74320" y="3835440"/>
              <a:ext cx="176004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0640" y="3606840"/>
              <a:ext cx="732600" cy="1998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7640" y="6683400"/>
              <a:ext cx="192276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2360" y="6468840"/>
              <a:ext cx="73260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920" y="3386160"/>
              <a:ext cx="97668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929200" y="103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88280" y="2921040"/>
            <a:ext cx="5914800" cy="4606200"/>
            <a:chOff x="6488280" y="2921040"/>
            <a:chExt cx="5914800" cy="4606200"/>
          </a:xfrm>
        </p:grpSpPr>
        <p:sp>
          <p:nvSpPr>
            <p:cNvPr id="55" name=""/>
            <p:cNvSpPr/>
            <p:nvPr/>
          </p:nvSpPr>
          <p:spPr>
            <a:xfrm>
              <a:off x="6488280" y="2921040"/>
              <a:ext cx="5914800" cy="4606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SL qui présente les modèles d’avions dans un tablea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template mat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able widt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incipal Characteristic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0808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Takeoff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Landing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26560" y="4506840"/>
              <a:ext cx="1647720" cy="228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8640" y="4292640"/>
              <a:ext cx="198144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64240" y="3409920"/>
              <a:ext cx="236232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61000" y="3857760"/>
              <a:ext cx="5688000" cy="15127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61000" y="5513400"/>
              <a:ext cx="5688000" cy="1152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785000" y="8105760"/>
            <a:ext cx="7293240" cy="2514600"/>
            <a:chOff x="7785000" y="8105760"/>
            <a:chExt cx="7293240" cy="25146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0" r="0" b="22742"/>
            <a:stretch/>
          </p:blipFill>
          <p:spPr>
            <a:xfrm>
              <a:off x="7785000" y="8486640"/>
              <a:ext cx="72932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856640" y="8610480"/>
              <a:ext cx="7129440" cy="2160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32160" y="8151840"/>
              <a:ext cx="330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ffichage obtenu dans la page 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9000" y="8105760"/>
              <a:ext cx="7239240" cy="25146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6640" y="8897760"/>
              <a:ext cx="7129440" cy="21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29000" y="8034480"/>
            <a:ext cx="3886200" cy="2831760"/>
            <a:chOff x="2529000" y="8034480"/>
            <a:chExt cx="3886200" cy="2831760"/>
          </a:xfrm>
        </p:grpSpPr>
        <p:sp>
          <p:nvSpPr>
            <p:cNvPr id="68" name=""/>
            <p:cNvSpPr/>
            <p:nvPr/>
          </p:nvSpPr>
          <p:spPr>
            <a:xfrm>
              <a:off x="2529000" y="8034480"/>
              <a:ext cx="3886200" cy="28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able width="100%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Principal Characteristics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 Stretch&lt;/b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 bgcolor="C0C0C0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Max. Takeoff Weight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1280" y="8615520"/>
              <a:ext cx="3581280" cy="129204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8120" y="8107200"/>
              <a:ext cx="196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HTML résul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920" y="10050480"/>
              <a:ext cx="3581280" cy="571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92640" y="6378480"/>
            <a:ext cx="793800" cy="2158920"/>
          </a:xfrm>
          <a:prstGeom prst="downArrow">
            <a:avLst>
              <a:gd name="adj1" fmla="val 50000"/>
              <a:gd name="adj2" fmla="val 679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6200000">
            <a:off x="6163920" y="6846120"/>
            <a:ext cx="934920" cy="1584360"/>
          </a:xfrm>
          <a:custGeom>
            <a:avLst/>
            <a:gdLst>
              <a:gd name="textAreaLeft" fmla="*/ 420120 w 934920"/>
              <a:gd name="textAreaRight" fmla="*/ 769320 w 934920"/>
              <a:gd name="textAreaTop" fmla="*/ 992880 h 1584360"/>
              <a:gd name="textAreaBottom" fmla="*/ 13046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353"/>
                </a:moveTo>
                <a:lnTo>
                  <a:pt x="13536" y="17353"/>
                </a:lnTo>
                <a:lnTo>
                  <a:pt x="13536" y="9719"/>
                </a:lnTo>
                <a:lnTo>
                  <a:pt x="9719" y="9719"/>
                </a:lnTo>
                <a:lnTo>
                  <a:pt x="15660" y="0"/>
                </a:lnTo>
                <a:lnTo>
                  <a:pt x="21600" y="9719"/>
                </a:lnTo>
                <a:lnTo>
                  <a:pt x="17783" y="9719"/>
                </a:lnTo>
                <a:lnTo>
                  <a:pt x="177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744800" y="7119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9:31:09Z</dcterms:created>
  <dc:creator>Réseau Certa</dc:creator>
  <dc:description/>
  <dc:language>en-US</dc:language>
  <cp:lastModifiedBy>Eric Deschaintre</cp:lastModifiedBy>
  <dcterms:modified xsi:type="dcterms:W3CDTF">2004-09-06T09:55:57Z</dcterms:modified>
  <cp:revision>97</cp:revision>
  <dc:subject/>
  <dc:title>Présentation PowerPoint</dc:title>
</cp:coreProperties>
</file>