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6.wmf" ContentType="image/x-wmf"/>
  <Override PartName="/ppt/media/image5.png" ContentType="image/png"/>
  <Override PartName="/ppt/media/image30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wmf" ContentType="image/x-wmf"/>
  <Override PartName="/ppt/media/image18.png" ContentType="image/png"/>
  <Override PartName="/ppt/media/image17.png" ContentType="image/pn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0B4-2658-4CE7-B10D-153B2879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F5E-D230-4E40-B5F5-0AD2E88E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4CC-00D9-4732-AAE8-09AF9BBB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BDB-107C-416E-BAEC-557D2E98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EF20-DD4A-4ECF-9F21-975BAF2A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BD90-2144-48F9-90D9-DA754CDC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8147-3C0B-4C7A-BFF2-0EFAC148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6E23-6843-4906-8B3F-DB51ABFD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0D3F-0ADD-405A-82C6-D3DB10A0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132B-72BB-431A-8FA4-A708763C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5D15-1DF9-48CD-94DF-B381E07E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E8F-BCFE-4EEB-B614-E7ABDFA9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87C8-374F-420A-BBDC-05BE1509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4E5A-56D6-4F8C-92BB-67D50057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A76E-E7F6-455E-BD58-0EC7091C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C58C-6BB3-447F-833C-CBD0B0D6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C00A-8C10-4FF9-815B-5D6A5D13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EF2-5C4E-48BA-80EE-402012A3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068-C4BD-4593-BA2F-DDED0F71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1E6-3C5F-44F8-9887-D3D1E455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8D1-B4AB-4AF5-88CD-BC7751DB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189-9FBB-49FC-8C03-7882306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480-11FE-4664-B1CC-33B8C528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0BE-05E0-427E-8FB6-27A431BE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3DF7-5A29-4C0A-814F-59D448A0D7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5684-16AE-405E-BC7C-6C0B0F5AF5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Bijouterie ST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920" y="3284640"/>
            <a:ext cx="540072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éation et vent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bijoux depuis 197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5364000" y="2637000"/>
            <a:ext cx="33051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Qu’est-ce qu’un PGI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PGI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: progiciel de gestion intégré (ERP Enterprise Ressource Planning en Anglai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Objectif 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: couvrir l'ensemble des processus d'une entrepri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Base de données unique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sur laquelle s'intègre des modules (gestion commerciale, gestion des immobilisations, gestion comptable et financière, gestion du personnel, gestion de production, gestion de projets…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hoix de OpenER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GI li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as de coût de lic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Disponibilité du code sou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Architecture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1835280" y="2708280"/>
          <a:ext cx="5616360" cy="32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1636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processu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3 processus 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Vente des bijou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Réapprovisionnement des bijou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059280" y="3284640"/>
            <a:ext cx="504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059280" y="4221000"/>
            <a:ext cx="504720" cy="5050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2436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5015" t="2368" r="15227" b="1819"/>
          <a:stretch/>
        </p:blipFill>
        <p:spPr>
          <a:xfrm>
            <a:off x="378000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2460600" cy="4319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395280" y="1773360"/>
            <a:ext cx="38876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réation d’un bracelet composé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tourma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quartz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améthys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2195640" y="2082960"/>
            <a:ext cx="215640" cy="122364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932360" y="3429000"/>
            <a:ext cx="2448000" cy="1008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11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2951280" cy="277812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12"/>
          <p:cNvSpPr/>
          <p:nvPr/>
        </p:nvSpPr>
        <p:spPr>
          <a:xfrm>
            <a:off x="2627280" y="2457360"/>
            <a:ext cx="2089080" cy="14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0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6732720" cy="4049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7236000" y="5013360"/>
            <a:ext cx="1655640" cy="792000"/>
          </a:xfrm>
          <a:prstGeom prst="wedgeRoundRectCallout">
            <a:avLst>
              <a:gd name="adj1" fmla="val -109157"/>
              <a:gd name="adj2" fmla="val -25340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B pour Bracelett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 pour « avec des perles »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1 numéro d’ord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1547640" y="3141720"/>
            <a:ext cx="165600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2411280" y="1700280"/>
            <a:ext cx="35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2"/>
          <a:stretch/>
        </p:blipFill>
        <p:spPr>
          <a:xfrm>
            <a:off x="534960" y="1916280"/>
            <a:ext cx="2260800" cy="3493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39640" y="3322800"/>
            <a:ext cx="1728720" cy="2887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Freeform 21"/>
          <p:cNvSpPr/>
          <p:nvPr/>
        </p:nvSpPr>
        <p:spPr>
          <a:xfrm>
            <a:off x="-60480" y="1628640"/>
            <a:ext cx="4272120" cy="198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6096240" cy="441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979640" y="1700280"/>
            <a:ext cx="351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2260800" cy="34941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79280" y="3645000"/>
            <a:ext cx="1728720" cy="21564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12"/>
          <p:cNvSpPr/>
          <p:nvPr/>
        </p:nvSpPr>
        <p:spPr>
          <a:xfrm>
            <a:off x="1835280" y="2421000"/>
            <a:ext cx="2232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8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6456600" cy="38847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979640" y="1700280"/>
            <a:ext cx="38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Nomencla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2"/>
          <a:stretch/>
        </p:blipFill>
        <p:spPr>
          <a:xfrm>
            <a:off x="179280" y="1849320"/>
            <a:ext cx="2260800" cy="349416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11"/>
          <p:cNvSpPr/>
          <p:nvPr/>
        </p:nvSpPr>
        <p:spPr>
          <a:xfrm>
            <a:off x="1476360" y="3645000"/>
            <a:ext cx="1800360" cy="21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79280" y="3687840"/>
            <a:ext cx="1728720" cy="46188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Freeform 17"/>
          <p:cNvSpPr/>
          <p:nvPr/>
        </p:nvSpPr>
        <p:spPr>
          <a:xfrm>
            <a:off x="1116000" y="3357720"/>
            <a:ext cx="5184720" cy="122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reeform 19"/>
          <p:cNvSpPr/>
          <p:nvPr/>
        </p:nvSpPr>
        <p:spPr>
          <a:xfrm>
            <a:off x="1657440" y="2647800"/>
            <a:ext cx="6010200" cy="1141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40"/>
          <p:cNvSpPr/>
          <p:nvPr/>
        </p:nvSpPr>
        <p:spPr>
          <a:xfrm>
            <a:off x="641520" y="3024360"/>
            <a:ext cx="18586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19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5856480" cy="35226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Freeform 14"/>
          <p:cNvSpPr/>
          <p:nvPr/>
        </p:nvSpPr>
        <p:spPr>
          <a:xfrm flipV="1">
            <a:off x="2124000" y="3141720"/>
            <a:ext cx="3672000" cy="792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3132000" y="907920"/>
            <a:ext cx="35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22"/>
          <p:cNvSpPr/>
          <p:nvPr/>
        </p:nvSpPr>
        <p:spPr>
          <a:xfrm>
            <a:off x="528480" y="1965240"/>
            <a:ext cx="1036800" cy="6858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Freeform 23"/>
          <p:cNvSpPr/>
          <p:nvPr/>
        </p:nvSpPr>
        <p:spPr>
          <a:xfrm>
            <a:off x="1508040" y="2427120"/>
            <a:ext cx="68400" cy="1461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24"/>
          <p:cNvSpPr/>
          <p:nvPr/>
        </p:nvSpPr>
        <p:spPr>
          <a:xfrm flipH="1">
            <a:off x="1193760" y="3948120"/>
            <a:ext cx="371520" cy="79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Freeform 25"/>
          <p:cNvSpPr/>
          <p:nvPr/>
        </p:nvSpPr>
        <p:spPr>
          <a:xfrm>
            <a:off x="1284120" y="4408560"/>
            <a:ext cx="88920" cy="1587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1565280" y="3948120"/>
            <a:ext cx="552600" cy="9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Freeform 27"/>
          <p:cNvSpPr/>
          <p:nvPr/>
        </p:nvSpPr>
        <p:spPr>
          <a:xfrm>
            <a:off x="1846440" y="4443480"/>
            <a:ext cx="101520" cy="1461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1565280" y="3948120"/>
            <a:ext cx="1846080" cy="72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Freeform 29"/>
          <p:cNvSpPr/>
          <p:nvPr/>
        </p:nvSpPr>
        <p:spPr>
          <a:xfrm>
            <a:off x="2938320" y="4454640"/>
            <a:ext cx="158760" cy="903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30"/>
          <p:cNvSpPr/>
          <p:nvPr/>
        </p:nvSpPr>
        <p:spPr>
          <a:xfrm>
            <a:off x="1565280" y="3948120"/>
            <a:ext cx="146160" cy="126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Freeform 31"/>
          <p:cNvSpPr/>
          <p:nvPr/>
        </p:nvSpPr>
        <p:spPr>
          <a:xfrm>
            <a:off x="1644480" y="4859280"/>
            <a:ext cx="66960" cy="15876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Oval 32"/>
          <p:cNvSpPr/>
          <p:nvPr/>
        </p:nvSpPr>
        <p:spPr>
          <a:xfrm>
            <a:off x="0" y="1773360"/>
            <a:ext cx="608040" cy="60804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133560" y="182880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Fiche-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88560" y="1965240"/>
            <a:ext cx="38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duit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144720" y="21002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réé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Freeform 36"/>
          <p:cNvSpPr/>
          <p:nvPr/>
        </p:nvSpPr>
        <p:spPr>
          <a:xfrm>
            <a:off x="641520" y="2573280"/>
            <a:ext cx="1847520" cy="1498680"/>
          </a:xfrm>
          <a:prstGeom prst="pi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641520" y="3822840"/>
            <a:ext cx="1858680" cy="260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1337760" y="3857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Toujour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940680" y="2843280"/>
            <a:ext cx="116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alcul du coût du bijou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1"/>
          <p:cNvSpPr/>
          <p:nvPr/>
        </p:nvSpPr>
        <p:spPr>
          <a:xfrm>
            <a:off x="680760" y="3046320"/>
            <a:ext cx="1454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alcul coût production dire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3"/>
          <p:cNvSpPr/>
          <p:nvPr/>
        </p:nvSpPr>
        <p:spPr>
          <a:xfrm>
            <a:off x="681120" y="3262320"/>
            <a:ext cx="1631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hoto bijou et MAJ fiche-produi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85080" y="3486240"/>
            <a:ext cx="58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Etiquettag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682920" y="3632040"/>
            <a:ext cx="1367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réation mouvement stock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46"/>
          <p:cNvSpPr/>
          <p:nvPr/>
        </p:nvSpPr>
        <p:spPr>
          <a:xfrm>
            <a:off x="822240" y="4521240"/>
            <a:ext cx="619200" cy="62064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7"/>
          <p:cNvSpPr/>
          <p:nvPr/>
        </p:nvSpPr>
        <p:spPr>
          <a:xfrm>
            <a:off x="966960" y="457848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ock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8"/>
          <p:cNvSpPr/>
          <p:nvPr/>
        </p:nvSpPr>
        <p:spPr>
          <a:xfrm>
            <a:off x="887400" y="4713120"/>
            <a:ext cx="46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gasi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9"/>
          <p:cNvSpPr/>
          <p:nvPr/>
        </p:nvSpPr>
        <p:spPr>
          <a:xfrm>
            <a:off x="1012320" y="4848120"/>
            <a:ext cx="22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Oval 50"/>
          <p:cNvSpPr/>
          <p:nvPr/>
        </p:nvSpPr>
        <p:spPr>
          <a:xfrm>
            <a:off x="1846440" y="4476600"/>
            <a:ext cx="731520" cy="73188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2048040" y="4589640"/>
            <a:ext cx="32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tock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1911960" y="472428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2004480" y="4859280"/>
            <a:ext cx="40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F MA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Oval 54"/>
          <p:cNvSpPr/>
          <p:nvPr/>
        </p:nvSpPr>
        <p:spPr>
          <a:xfrm>
            <a:off x="3029040" y="4386240"/>
            <a:ext cx="720720" cy="72072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55"/>
          <p:cNvSpPr/>
          <p:nvPr/>
        </p:nvSpPr>
        <p:spPr>
          <a:xfrm>
            <a:off x="3219480" y="44989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ijou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56"/>
          <p:cNvSpPr/>
          <p:nvPr/>
        </p:nvSpPr>
        <p:spPr>
          <a:xfrm>
            <a:off x="3083400" y="4633920"/>
            <a:ext cx="570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éposé en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57"/>
          <p:cNvSpPr/>
          <p:nvPr/>
        </p:nvSpPr>
        <p:spPr>
          <a:xfrm>
            <a:off x="3151080" y="477036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magasi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Oval 58"/>
          <p:cNvSpPr/>
          <p:nvPr/>
        </p:nvSpPr>
        <p:spPr>
          <a:xfrm>
            <a:off x="1397160" y="5018040"/>
            <a:ext cx="630000" cy="630360"/>
          </a:xfrm>
          <a:prstGeom prst="ellipse">
            <a:avLst/>
          </a:prstGeom>
          <a:solidFill>
            <a:srgbClr val="dfffd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59"/>
          <p:cNvSpPr/>
          <p:nvPr/>
        </p:nvSpPr>
        <p:spPr>
          <a:xfrm>
            <a:off x="1450800" y="5153040"/>
            <a:ext cx="492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onnées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0"/>
          <p:cNvSpPr/>
          <p:nvPr/>
        </p:nvSpPr>
        <p:spPr>
          <a:xfrm>
            <a:off x="1529640" y="5288040"/>
            <a:ext cx="354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ais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28560" y="3068640"/>
            <a:ext cx="1871640" cy="14436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Le système d’inform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Trois dimens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Humaine : des acteu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Organisationnelle : des process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Technologique : un réseau et un P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3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6337440" cy="2278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5508720" y="5373720"/>
            <a:ext cx="2735280" cy="431640"/>
          </a:xfrm>
          <a:prstGeom prst="wedgeRoundRectCallout">
            <a:avLst>
              <a:gd name="adj1" fmla="val -78555"/>
              <a:gd name="adj2" fmla="val -54963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prix de vente est calculé par le systè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700360" y="1844640"/>
            <a:ext cx="59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 / Onglet approvisionn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2"/>
          <a:stretch/>
        </p:blipFill>
        <p:spPr>
          <a:xfrm>
            <a:off x="52560" y="1839960"/>
            <a:ext cx="3749400" cy="38750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696960" y="3271680"/>
            <a:ext cx="1859040" cy="1447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reeform 14"/>
          <p:cNvSpPr/>
          <p:nvPr/>
        </p:nvSpPr>
        <p:spPr>
          <a:xfrm>
            <a:off x="2460600" y="1952640"/>
            <a:ext cx="5207040" cy="1405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4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6092640" cy="38541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081240" y="1844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Produit / Formulaire Produit / Bouton Attac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-3240" y="1827360"/>
            <a:ext cx="3749760" cy="38750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646200" y="3390840"/>
            <a:ext cx="1859040" cy="1573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Freeform 11"/>
          <p:cNvSpPr/>
          <p:nvPr/>
        </p:nvSpPr>
        <p:spPr>
          <a:xfrm>
            <a:off x="6877080" y="1905120"/>
            <a:ext cx="1954080" cy="515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Conception d’un nouveau bijou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081240" y="184464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Contrôle d’inventaire / Réception des produ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rcRect l="9938" t="10721" r="12629" b="0"/>
          <a:stretch/>
        </p:blipFill>
        <p:spPr>
          <a:xfrm>
            <a:off x="3419640" y="2205000"/>
            <a:ext cx="5327640" cy="4427640"/>
          </a:xfrm>
          <a:prstGeom prst="rect">
            <a:avLst/>
          </a:prstGeom>
          <a:ln w="0">
            <a:noFill/>
          </a:ln>
        </p:spPr>
      </p:pic>
      <p:sp>
        <p:nvSpPr>
          <p:cNvPr id="211" name="Freeform 9"/>
          <p:cNvSpPr/>
          <p:nvPr/>
        </p:nvSpPr>
        <p:spPr>
          <a:xfrm>
            <a:off x="2484360" y="3057480"/>
            <a:ext cx="4103640" cy="2963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2"/>
          <a:stretch/>
        </p:blipFill>
        <p:spPr>
          <a:xfrm>
            <a:off x="39600" y="1755720"/>
            <a:ext cx="3754440" cy="3444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692280" y="3611520"/>
            <a:ext cx="1858680" cy="216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068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rcRect l="0" t="3027" r="21884" b="0"/>
          <a:stretch/>
        </p:blipFill>
        <p:spPr>
          <a:xfrm>
            <a:off x="4376880" y="-11160"/>
            <a:ext cx="4735440" cy="6913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390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9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7175520" cy="4316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1246320" cy="20304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179280" y="3454560"/>
            <a:ext cx="1224000" cy="21564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411280" y="170028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estion des ventes/Commande cl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5435640" y="4724280"/>
            <a:ext cx="1800360" cy="720720"/>
          </a:xfrm>
          <a:prstGeom prst="wedgeRoundRectCallout">
            <a:avLst>
              <a:gd name="adj1" fmla="val -117106"/>
              <a:gd name="adj2" fmla="val -2537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lient occasionnel, régulier ou touri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6816960" cy="41004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79280" y="2421000"/>
            <a:ext cx="1246320" cy="20304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79280" y="3987720"/>
            <a:ext cx="1224000" cy="216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979640" y="170028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estion des ventes/Commande cl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1403280" y="5805360"/>
            <a:ext cx="1944720" cy="360360"/>
          </a:xfrm>
          <a:prstGeom prst="wedgeRoundRectCallout">
            <a:avLst>
              <a:gd name="adj1" fmla="val 119958"/>
              <a:gd name="adj2" fmla="val -2213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élection du prod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reeform 11"/>
          <p:cNvSpPr/>
          <p:nvPr/>
        </p:nvSpPr>
        <p:spPr>
          <a:xfrm>
            <a:off x="1008000" y="2444760"/>
            <a:ext cx="6085080" cy="187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979640" y="2054160"/>
            <a:ext cx="7129440" cy="45198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Vente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274500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585720" y="3703680"/>
            <a:ext cx="1800360" cy="18252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Freeform 8"/>
          <p:cNvSpPr/>
          <p:nvPr/>
        </p:nvSpPr>
        <p:spPr>
          <a:xfrm>
            <a:off x="2340000" y="2984400"/>
            <a:ext cx="3095640" cy="3468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916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Verdana"/>
              </a:rPr>
              <a:t>Réappro des bijou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9" descr=""/>
          <p:cNvPicPr/>
          <p:nvPr/>
        </p:nvPicPr>
        <p:blipFill>
          <a:blip r:embed="rId1"/>
          <a:srcRect l="0" t="1716" r="11125" b="1633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5" descr=""/>
          <p:cNvPicPr/>
          <p:nvPr/>
        </p:nvPicPr>
        <p:blipFill>
          <a:blip r:embed="rId1"/>
          <a:stretch/>
        </p:blipFill>
        <p:spPr>
          <a:xfrm>
            <a:off x="250920" y="2239920"/>
            <a:ext cx="8659800" cy="43308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992240" y="1674720"/>
            <a:ext cx="46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PAO / Approvisionnements brouill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2"/>
          <a:stretch/>
        </p:blipFill>
        <p:spPr>
          <a:xfrm>
            <a:off x="25560" y="3932280"/>
            <a:ext cx="4698720" cy="28033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8"/>
          <p:cNvSpPr/>
          <p:nvPr/>
        </p:nvSpPr>
        <p:spPr>
          <a:xfrm>
            <a:off x="2314440" y="5013360"/>
            <a:ext cx="2389320" cy="21600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reeform 14"/>
          <p:cNvSpPr/>
          <p:nvPr/>
        </p:nvSpPr>
        <p:spPr>
          <a:xfrm>
            <a:off x="4356000" y="4581360"/>
            <a:ext cx="2808360" cy="1943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8727840" cy="44751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1835280" y="1773360"/>
            <a:ext cx="43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enu GPAO / Ordre de fabrication à démarr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204840" y="3946680"/>
            <a:ext cx="2305080" cy="215640"/>
          </a:xfrm>
          <a:prstGeom prst="rect">
            <a:avLst/>
          </a:prstGeom>
          <a:solidFill>
            <a:srgbClr val="f9f90f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2340000" y="3357720"/>
            <a:ext cx="3600360" cy="3240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Group 14"/>
          <p:cNvGrpSpPr/>
          <p:nvPr/>
        </p:nvGrpSpPr>
        <p:grpSpPr>
          <a:xfrm>
            <a:off x="179280" y="2565360"/>
            <a:ext cx="3073680" cy="3327480"/>
            <a:chOff x="179280" y="2565360"/>
            <a:chExt cx="3073680" cy="3327480"/>
          </a:xfrm>
        </p:grpSpPr>
        <p:sp>
          <p:nvSpPr>
            <p:cNvPr id="249" name="AutoShape 13"/>
            <p:cNvSpPr/>
            <p:nvPr/>
          </p:nvSpPr>
          <p:spPr>
            <a:xfrm>
              <a:off x="179280" y="2565360"/>
              <a:ext cx="30736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15"/>
            <p:cNvSpPr/>
            <p:nvPr/>
          </p:nvSpPr>
          <p:spPr>
            <a:xfrm flipH="1">
              <a:off x="1362240" y="3071880"/>
              <a:ext cx="88560" cy="52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1362240" y="3363840"/>
              <a:ext cx="66600" cy="157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1249200" y="4735440"/>
              <a:ext cx="1452600" cy="763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18"/>
            <p:cNvSpPr/>
            <p:nvPr/>
          </p:nvSpPr>
          <p:spPr>
            <a:xfrm>
              <a:off x="2441520" y="5421240"/>
              <a:ext cx="158760" cy="55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Oval 19"/>
            <p:cNvSpPr/>
            <p:nvPr/>
          </p:nvSpPr>
          <p:spPr>
            <a:xfrm>
              <a:off x="1001880" y="2565360"/>
              <a:ext cx="742680" cy="74124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>
              <a:off x="1184400" y="2610000"/>
              <a:ext cx="41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Ordre d'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1088280" y="2744640"/>
              <a:ext cx="590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approvis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>
              <a:off x="1182240" y="2879640"/>
              <a:ext cx="41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nement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23"/>
            <p:cNvSpPr/>
            <p:nvPr/>
          </p:nvSpPr>
          <p:spPr>
            <a:xfrm>
              <a:off x="1262880" y="3014640"/>
              <a:ext cx="24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émi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179280" y="3521160"/>
              <a:ext cx="274968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179280" y="4572000"/>
              <a:ext cx="274968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26"/>
            <p:cNvSpPr/>
            <p:nvPr/>
          </p:nvSpPr>
          <p:spPr>
            <a:xfrm>
              <a:off x="1154160" y="4656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Toujour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27"/>
            <p:cNvSpPr/>
            <p:nvPr/>
          </p:nvSpPr>
          <p:spPr>
            <a:xfrm>
              <a:off x="793800" y="3780000"/>
              <a:ext cx="115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réparation fabrica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29"/>
            <p:cNvSpPr/>
            <p:nvPr/>
          </p:nvSpPr>
          <p:spPr>
            <a:xfrm>
              <a:off x="273960" y="3981600"/>
              <a:ext cx="1430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Lancer l'ordre de produc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30"/>
            <p:cNvSpPr/>
            <p:nvPr/>
          </p:nvSpPr>
          <p:spPr>
            <a:xfrm>
              <a:off x="225720" y="4127400"/>
              <a:ext cx="25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Sélection des composants et obtention de la photo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31"/>
            <p:cNvSpPr/>
            <p:nvPr/>
          </p:nvSpPr>
          <p:spPr>
            <a:xfrm>
              <a:off x="282600" y="4273560"/>
              <a:ext cx="2155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esée et comptage de chaque composant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32"/>
            <p:cNvSpPr/>
            <p:nvPr/>
          </p:nvSpPr>
          <p:spPr>
            <a:xfrm>
              <a:off x="263880" y="4419720"/>
              <a:ext cx="73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esée globale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Oval 33"/>
            <p:cNvSpPr/>
            <p:nvPr/>
          </p:nvSpPr>
          <p:spPr>
            <a:xfrm>
              <a:off x="2589120" y="5218200"/>
              <a:ext cx="663840" cy="66348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34"/>
            <p:cNvSpPr/>
            <p:nvPr/>
          </p:nvSpPr>
          <p:spPr>
            <a:xfrm>
              <a:off x="2687400" y="537516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lément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35"/>
            <p:cNvSpPr/>
            <p:nvPr/>
          </p:nvSpPr>
          <p:spPr>
            <a:xfrm>
              <a:off x="2696040" y="551016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répraré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" name="Connecteur droit 33"/>
          <p:cNvSpPr/>
          <p:nvPr/>
        </p:nvSpPr>
        <p:spPr>
          <a:xfrm>
            <a:off x="142920" y="3967200"/>
            <a:ext cx="278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e responsable développement de la SS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hoix d’une solution adaptée aux besoins de la bijouter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Mise en place et paramétrage du P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’ouvrier-joailli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2" name="Group 7"/>
          <p:cNvGrpSpPr/>
          <p:nvPr/>
        </p:nvGrpSpPr>
        <p:grpSpPr>
          <a:xfrm>
            <a:off x="1547640" y="1989000"/>
            <a:ext cx="4019760" cy="3408480"/>
            <a:chOff x="1547640" y="1989000"/>
            <a:chExt cx="4019760" cy="3408480"/>
          </a:xfrm>
        </p:grpSpPr>
        <p:sp>
          <p:nvSpPr>
            <p:cNvPr id="273" name="AutoShape 6"/>
            <p:cNvSpPr/>
            <p:nvPr/>
          </p:nvSpPr>
          <p:spPr>
            <a:xfrm>
              <a:off x="1547640" y="1989000"/>
              <a:ext cx="4019760" cy="34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Line 10"/>
            <p:cNvSpPr/>
            <p:nvPr/>
          </p:nvSpPr>
          <p:spPr>
            <a:xfrm>
              <a:off x="3720960" y="3316320"/>
              <a:ext cx="586080" cy="561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Freeform 11"/>
            <p:cNvSpPr/>
            <p:nvPr/>
          </p:nvSpPr>
          <p:spPr>
            <a:xfrm>
              <a:off x="4092480" y="3676680"/>
              <a:ext cx="135000" cy="1350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863720" y="4452840"/>
              <a:ext cx="2443320" cy="7653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1908000" y="4576680"/>
              <a:ext cx="90720" cy="157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14"/>
            <p:cNvSpPr/>
            <p:nvPr/>
          </p:nvSpPr>
          <p:spPr>
            <a:xfrm>
              <a:off x="3247920" y="2878200"/>
              <a:ext cx="663840" cy="65232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3348000" y="302436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Eléments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3356280" y="3159000"/>
              <a:ext cx="49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répraré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Freeform 20"/>
            <p:cNvSpPr/>
            <p:nvPr/>
          </p:nvSpPr>
          <p:spPr>
            <a:xfrm>
              <a:off x="3732120" y="3811680"/>
              <a:ext cx="1136880" cy="1046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3732120" y="4610160"/>
              <a:ext cx="1147680" cy="258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Rectangle 23"/>
            <p:cNvSpPr/>
            <p:nvPr/>
          </p:nvSpPr>
          <p:spPr>
            <a:xfrm>
              <a:off x="4110120" y="4654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Toujour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Rectangle 24"/>
            <p:cNvSpPr/>
            <p:nvPr/>
          </p:nvSpPr>
          <p:spPr>
            <a:xfrm>
              <a:off x="4048560" y="4070520"/>
              <a:ext cx="570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Fabrication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Line 25"/>
            <p:cNvSpPr/>
            <p:nvPr/>
          </p:nvSpPr>
          <p:spPr>
            <a:xfrm>
              <a:off x="3732120" y="4249800"/>
              <a:ext cx="1147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26"/>
            <p:cNvSpPr/>
            <p:nvPr/>
          </p:nvSpPr>
          <p:spPr>
            <a:xfrm>
              <a:off x="3826440" y="4272120"/>
              <a:ext cx="846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Fabrication bijou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27"/>
            <p:cNvSpPr/>
            <p:nvPr/>
          </p:nvSpPr>
          <p:spPr>
            <a:xfrm>
              <a:off x="3801240" y="4419720"/>
              <a:ext cx="104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Relevé temps passé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Oval 28"/>
            <p:cNvSpPr/>
            <p:nvPr/>
          </p:nvSpPr>
          <p:spPr>
            <a:xfrm>
              <a:off x="1547640" y="4734000"/>
              <a:ext cx="663840" cy="652320"/>
            </a:xfrm>
            <a:prstGeom prst="ellipse">
              <a:avLst/>
            </a:prstGeom>
            <a:solidFill>
              <a:srgbClr val="dfffd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29"/>
            <p:cNvSpPr/>
            <p:nvPr/>
          </p:nvSpPr>
          <p:spPr>
            <a:xfrm>
              <a:off x="1751760" y="4813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Bijou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Rectangle 30"/>
            <p:cNvSpPr/>
            <p:nvPr/>
          </p:nvSpPr>
          <p:spPr>
            <a:xfrm>
              <a:off x="1672560" y="49482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fabriqué 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Rectangle 31"/>
            <p:cNvSpPr/>
            <p:nvPr/>
          </p:nvSpPr>
          <p:spPr>
            <a:xfrm>
              <a:off x="1652760" y="5083200"/>
              <a:ext cx="50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ou rectifié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905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’ouvrier-joailli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2158920" y="1773360"/>
            <a:ext cx="38163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3048120" y="1628640"/>
            <a:ext cx="2392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Réappro de bijoux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2900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a géra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Gère le côté administratif et compta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alcule le prix de vente des bijo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Gère les stocks de matières premièr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ssistée par une secrétaire et une aide-compt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a créatr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onçoit et crée les nouveaux bijo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rée les fiches-produits des nouveaux bijou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Vérifie le travail des ouvriers-joailli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es vendeu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ccueillent les clients au magas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onseillent les cli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ssurent les v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acteu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Les ouvriers-joailli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Chargés du réapprovisionnement des bijoux sous la responsabilité de la créatr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Un réseau informati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700360" y="2276640"/>
          <a:ext cx="4176720" cy="36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76640"/>
                    <a:ext cx="4176720" cy="36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 SI</a:t>
            </a:r>
            <a:br>
              <a:rPr sz="3400"/>
            </a:b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Les technolog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Mise en place d’un progiciel de gestion intégré : OpenER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Prise en charge d’une partie des activités des processus par le PG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780000" y="3068640"/>
            <a:ext cx="1704960" cy="49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3610080" y="3138480"/>
            <a:ext cx="19238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8:50:30Z</dcterms:created>
  <dc:creator>KC</dc:creator>
  <dc:description/>
  <dc:language>en-US</dc:language>
  <cp:lastModifiedBy>Karine Creyx</cp:lastModifiedBy>
  <dcterms:modified xsi:type="dcterms:W3CDTF">2008-11-12T10:27:16Z</dcterms:modified>
  <cp:revision>59</cp:revision>
  <dc:subject/>
  <dc:title>Diapositive 1</dc:title>
</cp:coreProperties>
</file>