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B9C9-ECEC-4D3B-AA96-2365FD738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E338-FD50-417D-8DEB-4DED73E8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637E-5C48-49EB-888C-3B4B67171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5C3D-07C5-45C4-BCE9-E1E093B2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2D56-2C66-47E9-81D3-DFDD8A98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397E-C32A-402B-AA40-474851DE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9FCF-930D-429F-842E-67C64340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552A-E804-4FB8-938D-73E665BE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353F-3C53-457F-9FE6-DDCEA9CA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4331-8A77-4609-8C7B-8B6A0113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3FEC-F451-46D8-A859-AF60C954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EEEF-044A-4CDF-A9D3-3EC3E541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6D13-FA33-4F41-8A80-678267BB1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520" y="150840"/>
            <a:ext cx="6837480" cy="45608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360" y="4707000"/>
            <a:ext cx="6837480" cy="4699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187280"/>
            <a:ext cx="666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440" y="1042920"/>
            <a:ext cx="3024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lles d’Armes de Villers lès Na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97360" y="1187280"/>
            <a:ext cx="1944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280" y="1476360"/>
            <a:ext cx="640908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, rue Rodin – 54600 Villers-lès-Na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600" y="1951200"/>
            <a:ext cx="66024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ub d’Escr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920" y="1165320"/>
            <a:ext cx="1684440" cy="1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49920" y="37296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9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35280" y="2531880"/>
            <a:ext cx="38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35280" y="8348400"/>
            <a:ext cx="38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8760" y="6343560"/>
            <a:ext cx="25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2, rue de Marron, 54600 Villers-lès-Na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5400" y="6021360"/>
            <a:ext cx="155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ean-Christophe Berb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7720" y="665964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4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52600" y="6659640"/>
            <a:ext cx="113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ers-lès-Na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0160" y="7188120"/>
            <a:ext cx="318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uf cent soixante quatre euros et quarante centi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37160" y="7458120"/>
            <a:ext cx="81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/08/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34800" y="695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64,40 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3:44:41Z</dcterms:created>
  <dc:creator>Denis Gallot</dc:creator>
  <dc:description/>
  <dc:language>en-US</dc:language>
  <cp:lastModifiedBy>Denis Gallot</cp:lastModifiedBy>
  <dcterms:modified xsi:type="dcterms:W3CDTF">2009-11-11T14:33:37Z</dcterms:modified>
  <cp:revision>5</cp:revision>
  <dc:subject/>
  <dc:title>Diapositive 1</dc:title>
</cp:coreProperties>
</file>