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92C-E465-4C3A-838F-4AAF3425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35A-4283-4278-97BF-CBD9D0D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55B-9BD9-4EF9-BCA1-39895A0C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F9C-C729-4BB7-AAE2-44511A18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6D2-EF6A-4B32-A640-5F5E1DDE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2D9-5409-4381-898B-788434DE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224-B978-4241-B269-EE639F06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510-2C08-4899-AD63-9CB85B71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A8E-A094-445E-B0D0-924C8A89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DB5-8496-4DE4-AE7E-7F34A1A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F30-98B9-4BE3-A329-3BE2323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A1F-61A3-4861-A8E8-6BE85C5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2686-381B-42B4-8333-12D4231E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590920"/>
            <a:ext cx="6858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2590920"/>
            <a:ext cx="1295280" cy="26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53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9560" y="4114800"/>
            <a:ext cx="6858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6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33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672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badminton VLAN 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4765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’escrime – VLAN 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476520"/>
            <a:ext cx="2133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764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78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254628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73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0056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387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82080" y="3352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4819680"/>
            <a:ext cx="8380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6120" y="493380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écran de proj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62720" y="3962520"/>
            <a:ext cx="761760" cy="761760"/>
            <a:chOff x="7362720" y="3962520"/>
            <a:chExt cx="761760" cy="761760"/>
          </a:xfrm>
        </p:grpSpPr>
        <p:sp>
          <p:nvSpPr>
            <p:cNvPr id="73" name=""/>
            <p:cNvSpPr/>
            <p:nvPr/>
          </p:nvSpPr>
          <p:spPr>
            <a:xfrm flipV="1">
              <a:off x="7579800" y="3962520"/>
              <a:ext cx="326160" cy="32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664040" y="4255200"/>
              <a:ext cx="162720" cy="5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3627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523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8000" y="39718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Vidéo projec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704880" cy="480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42900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181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352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066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362320" y="4410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324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525780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324480" y="4410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67480" y="1295280"/>
            <a:ext cx="11430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40" y="2700"/>
                </a:moveTo>
                <a:lnTo>
                  <a:pt x="26460" y="2700"/>
                </a:lnTo>
                <a:lnTo>
                  <a:pt x="26460" y="31988"/>
                </a:lnTo>
                <a:lnTo>
                  <a:pt x="11490" y="4455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Ident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e faisa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tie de la 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volley p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n adresse 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257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040" y="52642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ise 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71040" y="525780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ie de brassage de l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51051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47:07Z</dcterms:created>
  <dc:creator>adm.gallot</dc:creator>
  <dc:description/>
  <dc:language>en-US</dc:language>
  <cp:lastModifiedBy>DG</cp:lastModifiedBy>
  <dcterms:modified xsi:type="dcterms:W3CDTF">2012-02-24T16:06:25Z</dcterms:modified>
  <cp:revision>10</cp:revision>
  <dc:subject/>
  <dc:title>Diapositive 1</dc:title>
</cp:coreProperties>
</file>