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56F-E4EF-42FB-83BC-1847329D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33C-4BFD-4860-97C7-ECD4BC8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A63-DD30-4AB8-AF2A-A26AB0EF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7EC-B441-42B4-91A2-776CA38B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CF0-EF7E-4722-AEBD-3AF191D4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9B8-313E-45F3-A1AD-4F899DA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245-13A1-47EC-98B0-102920B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21B-8ED6-476E-81DC-7A32192A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8F6-DC1A-4CE0-9BAD-BB0E168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B77-85C9-49CE-9249-81AD71C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083-8584-40F1-BF63-4D000F1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F5-4D20-414A-877F-46C71CD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B59-5A19-4F1C-A8AE-3E4CAD232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5783400"/>
            <a:ext cx="6184800" cy="1726920"/>
          </a:xfrm>
          <a:prstGeom prst="roundRect">
            <a:avLst>
              <a:gd name="adj" fmla="val 6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1909800"/>
            <a:ext cx="2771640" cy="172728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382104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2040" y="1905120"/>
            <a:ext cx="277200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29160" y="384192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7253280"/>
            <a:ext cx="695160" cy="682560"/>
          </a:xfrm>
          <a:prstGeom prst="upArrow">
            <a:avLst>
              <a:gd name="adj1" fmla="val 38481"/>
              <a:gd name="adj2" fmla="val 5138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4960" y="2260440"/>
            <a:ext cx="341280" cy="40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9800" y="2405160"/>
            <a:ext cx="1049400" cy="81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300560"/>
            <a:ext cx="1049040" cy="81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5480" y="187812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art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080" y="18716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s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080" y="377820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Confé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4720" y="380844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s équipement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28280" y="72057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4200" y="5848200"/>
            <a:ext cx="438120" cy="551160"/>
          </a:xfrm>
          <a:prstGeom prst="upArrow">
            <a:avLst>
              <a:gd name="adj1" fmla="val 53028"/>
              <a:gd name="adj2" fmla="val 427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22400">
            <a:off x="3998880" y="60688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55880" y="5891040"/>
            <a:ext cx="0" cy="155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0640" y="6513480"/>
            <a:ext cx="1049400" cy="40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6157800"/>
            <a:ext cx="0" cy="13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822400">
            <a:off x="2238480" y="66610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accu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8840" y="7015320"/>
            <a:ext cx="46188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4465800"/>
            <a:ext cx="46224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88000" y="2427120"/>
            <a:ext cx="4618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5120" y="2462040"/>
            <a:ext cx="461880" cy="4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3880" y="14749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ses nationales de l’Es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73000" y="6769080"/>
            <a:ext cx="808200" cy="54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49160" y="52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9800" y="52592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77600">
            <a:off x="1940040" y="6267240"/>
            <a:ext cx="914400" cy="16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2400">
            <a:off x="344520" y="578592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organis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280" y="66564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822400">
            <a:off x="360360" y="6897240"/>
            <a:ext cx="4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57000" y="763920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276800" y="2495520"/>
            <a:ext cx="104616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870200" y="2519280"/>
            <a:ext cx="43344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273640" y="4316400"/>
            <a:ext cx="8636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41440" y="4300560"/>
            <a:ext cx="650880" cy="73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730520" y="4361040"/>
            <a:ext cx="461880" cy="48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22040" y="33195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00" y="3294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865760" y="6424560"/>
            <a:ext cx="699840" cy="69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6200000">
            <a:off x="2829960" y="3807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r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3080" y="5838840"/>
            <a:ext cx="80028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600" y="558792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géant d’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45600">
            <a:off x="4114440" y="1185480"/>
            <a:ext cx="3780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56080" y="12463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44600" y="2009880"/>
            <a:ext cx="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9960" y="1201680"/>
            <a:ext cx="14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visi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public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ent DHCP 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60800" y="2695680"/>
            <a:ext cx="766800" cy="81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523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d’accès wifi (x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5560" y="2298600"/>
            <a:ext cx="142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aison taggué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es vlans 2 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9720" y="618156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France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39880" y="987480"/>
            <a:ext cx="966600" cy="113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flipH="1" rot="20853000">
            <a:off x="2958840" y="411120"/>
            <a:ext cx="37764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271680" y="23796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24200" y="263520"/>
            <a:ext cx="204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organisa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ent DHCP 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5560" y="346392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6670800"/>
            <a:ext cx="612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2600" y="532116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9800" y="6810480"/>
            <a:ext cx="1292400" cy="76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160" y="706104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6240" y="57783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79360" y="367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25600" y="36594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5329080"/>
            <a:ext cx="4170240" cy="692280"/>
          </a:xfrm>
          <a:prstGeom prst="borderCallout2">
            <a:avLst>
              <a:gd name="adj1" fmla="val 18750"/>
              <a:gd name="adj2" fmla="val -8333"/>
              <a:gd name="adj3" fmla="val 16513"/>
              <a:gd name="adj4" fmla="val -8032"/>
              <a:gd name="adj5" fmla="val -35319"/>
              <a:gd name="adj6" fmla="val -14462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MD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ur DHCP pour les deux réseaux wifi « public » et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9960" y="2049480"/>
            <a:ext cx="4471920" cy="55872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5680"/>
              <a:gd name="adj5" fmla="val -40342"/>
              <a:gd name="adj6" fmla="val -965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admin » non diffusé - WPA2 - VLAN 1 administration– réseau 172.16.0.0/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orga » non diffusé WPA2 – VLAN 2 - réseau 10.10.10.0/2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public » diffusé WPA2 - VLAN 3 – réseau 172.31.1.0/24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681280" y="4111560"/>
            <a:ext cx="76680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3000" y="5477040"/>
            <a:ext cx="7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outer Clip Art"/>
          <p:cNvPicPr/>
          <p:nvPr/>
        </p:nvPicPr>
        <p:blipFill>
          <a:blip r:embed="rId9"/>
          <a:stretch/>
        </p:blipFill>
        <p:spPr>
          <a:xfrm>
            <a:off x="441360" y="4640400"/>
            <a:ext cx="1625400" cy="89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4040" y="4483080"/>
            <a:ext cx="215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2435040" y="3241800"/>
            <a:ext cx="81180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200320" y="3438360"/>
            <a:ext cx="6746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3409920"/>
            <a:ext cx="180036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371760"/>
            <a:ext cx="235116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4320" y="3056040"/>
            <a:ext cx="2232000" cy="69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60" y="42735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72.31.1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5560" y="44514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0.10.10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52941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Router Clip Art"/>
          <p:cNvPicPr/>
          <p:nvPr/>
        </p:nvPicPr>
        <p:blipFill>
          <a:blip r:embed="rId11"/>
          <a:stretch/>
        </p:blipFill>
        <p:spPr>
          <a:xfrm>
            <a:off x="415800" y="6014880"/>
            <a:ext cx="1625760" cy="89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749760" y="4336920"/>
            <a:ext cx="811080" cy="73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1720" y="4838760"/>
            <a:ext cx="94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otocop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56760" y="2692440"/>
            <a:ext cx="110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guichet 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760" y="4870440"/>
            <a:ext cx="98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075200" y="321804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76640" y="1143000"/>
            <a:ext cx="3476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1680" y="3371760"/>
            <a:ext cx="274320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8800" y="355932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c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962440"/>
            <a:ext cx="399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739200">
            <a:off x="2073600" y="3287520"/>
            <a:ext cx="6573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903840" y="2681280"/>
            <a:ext cx="579240" cy="51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92000" y="27655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imante ba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Glossy Tv clip art"/>
          <p:cNvPicPr/>
          <p:nvPr/>
        </p:nvPicPr>
        <p:blipFill>
          <a:blip r:embed="rId15"/>
          <a:stretch/>
        </p:blipFill>
        <p:spPr>
          <a:xfrm>
            <a:off x="5032440" y="3668760"/>
            <a:ext cx="150804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20520" y="40194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ch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5080" y="3521160"/>
            <a:ext cx="1908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4840" y="4276800"/>
            <a:ext cx="69840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720" y="422928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filt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2280" y="447372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2:17Z</dcterms:created>
  <dc:creator>DG</dc:creator>
  <dc:description/>
  <dc:language>en-US</dc:language>
  <cp:lastModifiedBy>DG</cp:lastModifiedBy>
  <dcterms:modified xsi:type="dcterms:W3CDTF">2012-02-24T16:05:15Z</dcterms:modified>
  <cp:revision>17</cp:revision>
  <dc:subject/>
  <dc:title>Diapositive 1</dc:title>
</cp:coreProperties>
</file>