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wmf" ContentType="image/x-wmf"/>
  <Override PartName="/ppt/media/image1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2C23-D8E0-41D1-9F1D-2D816BAF2C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elle mesure des gains ? Quantitatif ? Qualitatif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els critè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DFD1-6C88-4CC7-A64B-4AA42F24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209-D635-442F-9924-A52A1E29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F22-3679-48CA-917D-27536F00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0E1-BD62-4C76-B83C-918F4199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5959-9B09-4904-9AE2-5D8F09AC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E933-1350-4915-A34C-6C5CE3BB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FC3B-5C5A-4744-ABD9-F3192464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B24D-0A6A-4F36-A3C9-8FDFD1C7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CA8C-7E85-4770-9914-46740D1A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1BC0-7C1C-47E4-AD19-08F2CD40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A254-DEE7-490B-B7E1-53646866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25A-5C50-46A4-9979-95E8D1A7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2CE0-6287-4D20-89B7-8B9321FA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DB37-A93C-42D1-A89B-C80D6CFC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3E84-715B-4F1C-923C-CF91073C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5EA8-4997-45DB-AA99-BE31A6DD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D42D-4664-4DDC-BDFD-9028FA67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12F-A9EB-44B9-8549-455C3DD7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030-B1F0-40C6-99D0-10E20288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F50-28FC-4BBF-9B1A-F6A26489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960-CC7C-4C2E-9C77-0FD60BA0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1B8-C6BF-473C-8A41-91F06D03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E15-D3DD-4D23-A037-F25822EB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DB9-AFD4-4AC8-975E-4D1F7637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448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448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E0F7-832E-4B04-9321-B6470BC4A267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448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8734-B7F5-46EA-AB2B-5B19D77BECC0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LA CRI</a:t>
            </a:r>
            <a:r>
              <a:rPr b="1" lang="fr-FR" sz="36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E DE POULGOAZEC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Arial"/>
              </a:rPr>
              <a:t>Fonctionnement et projet d’évolution de son S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6400800" y="-480060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Débarquement des ba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2800080" cy="3733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3886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267080" y="417204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81280" y="2362320"/>
            <a:ext cx="198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3657600"/>
            <a:ext cx="1447920" cy="533520"/>
          </a:xfrm>
          <a:prstGeom prst="wedgeRoundRectCallout">
            <a:avLst>
              <a:gd name="adj1" fmla="val -44407"/>
              <a:gd name="adj2" fmla="val 115773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Dor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5715000"/>
            <a:ext cx="2133720" cy="533520"/>
          </a:xfrm>
          <a:prstGeom prst="wedgeRoundRectCallout">
            <a:avLst>
              <a:gd name="adj1" fmla="val -78347"/>
              <a:gd name="adj2" fmla="val -296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Lieu jau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421000"/>
            <a:ext cx="1447920" cy="533160"/>
          </a:xfrm>
          <a:prstGeom prst="wedgeRoundRectCallout">
            <a:avLst>
              <a:gd name="adj1" fmla="val 139912"/>
              <a:gd name="adj2" fmla="val 57736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Hom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Débarquement des ba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1040" y="2362320"/>
            <a:ext cx="4152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poissons concernés par le label sont identifiés par les pêcheurs au moyen d’une étiquette mentionnant le code du navire  pratiquant ce type de pêc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Étiquette rose: lieu jaune de lig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Étiquette orange: bar de lig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76360" y="236232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1460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876920" y="5334120"/>
            <a:ext cx="40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Notre bac contient des lieus jaunes de lig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Manuten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43040" y="2362320"/>
            <a:ext cx="4800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bacs sont ensuite transférés par le 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manutentionnaire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sur la zone de pesage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eux types de bacs sont utilisés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Petite taille (Bac B) : tare = 2,5 k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Grande taille (Bac F) : tare = 4 k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ontrôle qualité des ba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haque bac est contrôlé par l’agent de contrôle qualité (</a:t>
            </a: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vétérinaire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ou assimilé) avant la pesé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Qualité (fraîcheu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aille (tr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l peut modifier l’ETQP signalé, déplacer des poissons de bacs pour qu’il soit du bon ETQP ou refuser certains poiss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 l’issue du contrôle le bac est prêt à pe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esée et identification des lo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5029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haque lot est pesé sur la station de pesée par le 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Peseur Marqueu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 lot est une unité de vente provenant d’un bateau, il est constitué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Soit d’un seul bac contenant des poissons de mêmes caractéristiques (ETQ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Soit de plusieurs bacs contenant des poissons de mêmes caractéristiques (ETQ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Soit d’un assortiment de poissons 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(le prix de retrait sera celui de l’espèce la plus représentée dans la taille la plus petit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800080" cy="3733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43280" y="6019920"/>
            <a:ext cx="450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Arial"/>
              </a:rPr>
              <a:t>Notre bac de lieus jaunes constitue un lot, il est ici sur la bala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esée et identification des lo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L’opérateur indique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e nom du bateau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e nombre et le type de bac (B, F) constituant le lot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’espèce  (BARLI), identifiée selon un code CCI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a taille (de 1 à  9 + un autre chiffre pour les tailles intermédiaires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a qualité (E extra, A glacé, B déclassé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a présentation (ENTier, VIDé, ETéTé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e poids brut du lot lu sur la balance électroniqu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3366"/>
                </a:solidFill>
                <a:latin typeface="Arial"/>
              </a:rPr>
              <a:t>Le poids du poisson (net) est calculé en fonction de la tar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305240" y="2362320"/>
            <a:ext cx="48387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esée et identification des lo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52584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 numéro du lot est séquentiel, par bateau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l se compose de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2 chiffres pour le n° du batea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3 chiffres pour le n° du lot du  jou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 ticket dit « avant vente » mentionnant les éléments ci-dessus est imprimé et posé sur le lo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48000" y="2924280"/>
            <a:ext cx="4896000" cy="3224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84360" y="6267600"/>
            <a:ext cx="6659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</a:rPr>
              <a:t>Voici le ticket concernant le lot de lieu jau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Exposition et entreposage des lo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962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’exposition est organisée par qualité de poisson, puis par espèce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êche du jour (Qualité E, ou B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oissons de lign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oissons de file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êche glacée (Qualité A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oissons de lign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Poissons de file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es lots sont entreposés triés par bateau et par numéro de l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’ordre d’exposition des lots est étudié pour favoriser les acheteurs qui interviennent sur plusieurs crié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e premier bac de chaque lot est étal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4267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Exposition et entreposage des lo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4419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premier lot de chaque bateau est inscrit sur une tablet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53000" y="2362320"/>
            <a:ext cx="2800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Mise en lig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informations concernant les lots à vendre sont transmises en continu via un réseau à une station mobile : le Mobi Clock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ette station se déplace au fil de la vente face aux lots en ven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lle présente un écran dont nous allons étudier les caractéristiq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81480" y="4457880"/>
            <a:ext cx="37339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résentation généra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7272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a criée de Poulgoazec est située sur la commune de Plouhinec (29), à proximité de la Pointe du Raz sur la zone de pêche Atlantique Nord Es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40000" y="3141720"/>
            <a:ext cx="4032360" cy="2043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39880" y="5232240"/>
            <a:ext cx="830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e criée est une vente aux enchères d’une production, réservée à des professionnels, menée par un directeur de vente appelé « crieur » ; avant l’informatisation les enchères étaient annoncées à voix hau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’écran du mobi-clo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47920" y="1457280"/>
            <a:ext cx="7124760" cy="5343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2590920"/>
            <a:ext cx="1523880" cy="609480"/>
          </a:xfrm>
          <a:prstGeom prst="wedgeRoundRectCallout">
            <a:avLst>
              <a:gd name="adj1" fmla="val 87500"/>
              <a:gd name="adj2" fmla="val 58074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uméro du lot en v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2666880"/>
            <a:ext cx="2057400" cy="609840"/>
          </a:xfrm>
          <a:prstGeom prst="wedgeRoundRectCallout">
            <a:avLst>
              <a:gd name="adj1" fmla="val -111342"/>
              <a:gd name="adj2" fmla="val 41666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om du bateau qui l’a pêch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657600"/>
            <a:ext cx="1905120" cy="1295280"/>
          </a:xfrm>
          <a:prstGeom prst="wedgeRoundRectCallout">
            <a:avLst>
              <a:gd name="adj1" fmla="val 64999"/>
              <a:gd name="adj2" fmla="val -45467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rix de vente au Kg en € atteint pendant la v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4038480"/>
            <a:ext cx="2209680" cy="609840"/>
          </a:xfrm>
          <a:prstGeom prst="wedgeRoundRectCallout">
            <a:avLst>
              <a:gd name="adj1" fmla="val -71981"/>
              <a:gd name="adj2" fmla="val 35416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om de l’acheteur du lo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181480"/>
            <a:ext cx="2057400" cy="609840"/>
          </a:xfrm>
          <a:prstGeom prst="wedgeRoundRectCallout">
            <a:avLst>
              <a:gd name="adj1" fmla="val 67592"/>
              <a:gd name="adj2" fmla="val -52083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aractéristiques ETQP du lo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1447920"/>
            <a:ext cx="2514600" cy="609480"/>
          </a:xfrm>
          <a:prstGeom prst="wedgeRoundRectCallout">
            <a:avLst>
              <a:gd name="adj1" fmla="val 0"/>
              <a:gd name="adj2" fmla="val 83074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Informations lots précéde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6248520"/>
            <a:ext cx="2514600" cy="609480"/>
          </a:xfrm>
          <a:prstGeom prst="wedgeRoundRectCallout">
            <a:avLst>
              <a:gd name="adj1" fmla="val -89013"/>
              <a:gd name="adj2" fmla="val -51300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Informations lots suiva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 vente aux enchè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crieur  propose le lot à  la vente à un prix de départ qu’il détermine selon les critères suivants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Espèce, qualit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olume des appor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Estimation de la demande (fêtes, événements, météo…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ours des ventes précéden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nchères descendantes : le prix au kilo diminue par tranches de 10ct d’€ jusqu’à ce qu’un acheteur soit preneur du lot ou que le prix de retrait fixé par l’OPOB soit attei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nchères ascendantes : le prix du lot augmente par tranche de 5ct d’€ jusqu’à ce qu’il n’y ai plus de concurrence sur un lot, c’est-à-dire plus qu’un seul acheteu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 vente aux enchè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i un lot ne trouve pas preneur il est revendu au titre de déchets (Equarrissag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acheteu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40766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30 acheteurs sont accrédités à ce marché ce qui implique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e présenter des garanties financiè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’assiduité aux ven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ls enchérissent sur un lot en actionnant une télécomman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00600" y="106668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1886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 vente aux enchè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19920" y="9907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 chef de vente annonce le lot mis en ve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acheteurs enchériss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 chef de vente valide la vente du lot. Il peut ne pas valider la vente s’il constate une irrégularité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’ordre matériel (pb mobiclock ou télécommand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’ordre commercial (entente manifeste entre acheteurs, cours trop bas…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’ordre manipulatoire (erreu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 vente aux enchè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2361960"/>
            <a:ext cx="3384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 ticket (rouge) dit « après vente » est imprimé, il mentionne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 nom de l’acheteu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 prix de vente au k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s éléments caractéristiques du lo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780000" y="3233880"/>
            <a:ext cx="5364000" cy="3624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4861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Étiquetage des lots vend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tickets imprimés sont placés sur les lots vend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53000" y="2362320"/>
            <a:ext cx="2800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Manuten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lots sont regroupés par achete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lots sont embarqués pour la livrais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924360" cy="29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371600" y="440064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objectif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objectifs d’un projet se déduisent des besoins exprimés par le cli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aciliter le travail des acheteurs et des vendeurs en leur fournissant un outil de travail convivial et réacti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ournir des informations pertinentes aux acheteurs sur les ventes à venir et sur les achats qu’ils ont réalisé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aciliter le suivi comptable en évitant les doubles saisies d’inform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Optimiser les processus de « préparation de vente » et de « vente 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gains attendus  par la mise en œuvre du proje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méliorer la productivité des services de la criée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aintenir une flotte à Audierne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ugmenter le nombre d’acheteurs et les fidéliser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aintenir voire augmenter le niveau du cours moyen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résentation généra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Données 2005 – Les 7 ports de Cornouail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14400" y="2438280"/>
          <a:ext cx="7848720" cy="3711600"/>
        </p:xfrm>
        <a:graphic>
          <a:graphicData uri="http://schemas.openxmlformats.org/drawingml/2006/table">
            <a:tbl>
              <a:tblPr/>
              <a:tblGrid>
                <a:gridCol w="1523880"/>
                <a:gridCol w="1067040"/>
                <a:gridCol w="1066680"/>
                <a:gridCol w="1676520"/>
                <a:gridCol w="1066680"/>
                <a:gridCol w="14479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artier Mari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mbre d’unités de pêch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nn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iffre d’affair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 millions d’€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urs moye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 €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mbre d’acheteu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scon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77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,5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dierne (Poulgoazec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6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,033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,68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uarnenez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76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99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ctud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88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9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carneau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97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nmarc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3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3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 Guilvine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82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5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utilisateurs 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Quels seront les utilisateurs de l’applic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achete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chef de v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pese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comp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vendeurs (pêcheurs reçoivent leur relevés journaliers instantanéme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risqu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6681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isques liés à la mise en place du projet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rein à l’utilisation de la part des acheteurs et des vendeurs (divulgation d’information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Panne d’un élément clé du processus (station de pesage, ou mobiclock – station dont il faut gérer l’autonomie électriqu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sure prématurée du matériel compte tenu de son exposition à un milieu hostile (air humide et salin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Gains quantitatifs réalisé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Augmentation du cours moyen</a:t>
            </a: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 de 17 % la première année et ce jamais démenti depui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3366"/>
                </a:solidFill>
                <a:latin typeface="Arial"/>
              </a:rPr>
              <a:t>A titre d’exemple, le cours du bar de ligne est passé de 12,96 € / kg à 15,53 € / k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Accélération de la vente : </a:t>
            </a: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la vente monopolisait 4 personnes 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1 crieu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2 marqueurs : </a:t>
            </a: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calculant les éléments de coût et de tares des lots vendus et notant ces éléments sur des b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1 personne pour placer les bons sur les lots vendu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Aujourd’hui, le processus de vente ne mobilise que 2 person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Les 2 autres personnes sont affectées aux tâches de manutention qui peuvent démarrer dès l’attribution des lots. Mise en place des 35h : la mise en place de la réglementation des 35h a été réalisée sans charge de personnel supplémentaire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Facilitation de la mise en place des 35h :</a:t>
            </a: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 la mise en place de la réglementation des 35h a été réalisée sans charge de personnel supplémentaire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Gains qualitatifs réalisé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569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Traitements comptables immédiats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Traitements des lots en continu :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a vente d’un lot peut se faire en continu tant que la vente du jour n’est pas clôturé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Pas d’erreurs sur les lots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Amélioration de la qualité des produits (fraîcheu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Gestion du risque  des sorties en mer pour les pêcheurs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Santé :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le crieur, moins d’exposition à un milieu hostile (humide, froid ou chaud) pour le personne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résentation généra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site est réputé pour la qualité de sa pêche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spèce et techniques de pêche labellisées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êche à la ligne, « ligneurs de la pointe de Bretagne 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3 espèces concernées par ce label 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Le b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Le lieu jaun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La dorad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Pêche de crustacés : homards, langoustes, araigné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cours moyen de vente est le plus élevé des 42 criées françaises : 5,68 € du kilo (200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acteurs de la filière pêche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pêcheur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 : exploitant qui effectue le prélèvement de poissons ou de crustacés selon diverses techniques de pêche (filet, chalut, ligne, casiers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mareyeur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 : commerçant en gros qui approvisionne des clients de plusieurs nature - poissonneries, écaillers, restaurants, transformateurs, grandes surfaces – en produits frais de la 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transformateur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 : entreprise spécialisée dans la transformation des produits frais de la pêche en produits transformés (conserves, surgelés, surimis, poissons fumés, salés, séchés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001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acteurs de la filière pêche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36680" y="620640"/>
          <a:ext cx="6210360" cy="623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620640"/>
                    <a:ext cx="621036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 criée: 2 processus méti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rocessus de préparation de la vente, du débarquement des bateaux à l’entreposage des lo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rocessus de vente aux enchères des lo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Infrastructure matérielle et logicielle de la criée à l’heure actuel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27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66944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7617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Présentation du processus de préparation de vente de lots de poissons à l’heure actuel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486400" y="275760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942920" cy="2590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2361960"/>
            <a:ext cx="5018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e pêcheur débarque les bacs de poissons triés selon les critères ETQ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Espè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Taille (1 à 9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Qualité ( A- glacé,B - abîmé, E -Extra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Présentation (ENTier, VIDé, ETéTé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562720"/>
            <a:ext cx="3467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</a:rPr>
              <a:t>Nous suivrons ce bac de poiss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15:53:36Z</dcterms:created>
  <dc:creator>Reseau Certa - Rozenn Dagorn</dc:creator>
  <dc:description/>
  <dc:language>en-US</dc:language>
  <cp:lastModifiedBy> Eric Deschaintre</cp:lastModifiedBy>
  <dcterms:modified xsi:type="dcterms:W3CDTF">2008-09-29T09:48:23Z</dcterms:modified>
  <cp:revision>39</cp:revision>
  <dc:subject/>
  <dc:title>LA CRIÉE DE POULGOAZEC</dc:title>
</cp:coreProperties>
</file>