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E33-C502-4C96-B8A6-218995796A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8E5-7A2A-4983-9672-0E12F8DC7752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9D4-6C00-4998-8149-72F4461B93E2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F25-DCCB-4F21-9DD1-480879F1410D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permanences SAMU sont en nég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87FB-5869-4B41-B5A8-93D3BF57976B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D16-692A-40AD-AAB6-20990FA652E1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5FD-4442-4F01-9F29-029845DFA7C5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DF2-7FC2-475B-A6D7-B7CFB4725CE3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CE2-E830-44C2-8EFD-92E4CDF42C26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E8C0-7C18-4043-86D5-E6167D3DBDFC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4218-D7BB-4D41-8A1A-59586F865A23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440-0CC5-46D1-9365-F64FF001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274-CB09-465E-8DCB-82B530D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FF4-EF7F-49E7-B95C-912C09D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15F-DFEF-4863-83C2-46429B73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722-75AF-4FA4-857D-4EAC443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798-6674-4A5B-9A95-1225C0F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216-3627-4063-8FBE-9CBA02F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02A-EEFA-474C-99DE-06C708C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220-3797-4AC0-9D82-AD94562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2D7-D3C6-4EF5-86CD-EFA7DD6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A5A-542D-4E1E-8F07-2FE41850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FCA-D5C8-496C-9C4C-80171E0C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51920" y="990720"/>
            <a:ext cx="8686800" cy="152280"/>
            <a:chOff x="151920" y="990720"/>
            <a:chExt cx="8686800" cy="152280"/>
          </a:xfrm>
        </p:grpSpPr>
        <p:sp>
          <p:nvSpPr>
            <p:cNvPr id="7" name="AutoShape 9"/>
            <p:cNvSpPr/>
            <p:nvPr/>
          </p:nvSpPr>
          <p:spPr>
            <a:xfrm>
              <a:off x="599760" y="990720"/>
              <a:ext cx="8238960" cy="15228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>
              <a:off x="151560" y="990720"/>
              <a:ext cx="462600" cy="152280"/>
            </a:xfrm>
            <a:prstGeom prst="flowChartDelay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6156360" y="18900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cc"/>
                </a:solidFill>
                <a:latin typeface="Arial"/>
              </a:rPr>
              <a:t>Contexte de niveau I Ambulances du Maur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" name="Group 9"/>
          <p:cNvGrpSpPr/>
          <p:nvPr/>
        </p:nvGrpSpPr>
        <p:grpSpPr>
          <a:xfrm>
            <a:off x="-36000" y="-6120"/>
            <a:ext cx="874080" cy="844200"/>
            <a:chOff x="-36000" y="-6120"/>
            <a:chExt cx="874080" cy="844200"/>
          </a:xfrm>
        </p:grpSpPr>
        <p:sp>
          <p:nvSpPr>
            <p:cNvPr id="11" name="Forme 2057"/>
            <p:cNvSpPr/>
            <p:nvPr/>
          </p:nvSpPr>
          <p:spPr>
            <a:xfrm>
              <a:off x="488880" y="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orme 2058"/>
            <p:cNvSpPr/>
            <p:nvPr/>
          </p:nvSpPr>
          <p:spPr>
            <a:xfrm>
              <a:off x="411120" y="31572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orme 2059"/>
            <p:cNvSpPr/>
            <p:nvPr/>
          </p:nvSpPr>
          <p:spPr>
            <a:xfrm>
              <a:off x="245880" y="31104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orme 2060"/>
            <p:cNvSpPr/>
            <p:nvPr/>
          </p:nvSpPr>
          <p:spPr>
            <a:xfrm rot="1086000">
              <a:off x="0" y="5328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Ellipse 2061"/>
            <p:cNvSpPr/>
            <p:nvPr/>
          </p:nvSpPr>
          <p:spPr>
            <a:xfrm>
              <a:off x="331560" y="73044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08A-97E7-4D8B-A33F-AE3B19B39F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867280" y="3933720"/>
            <a:ext cx="1057320" cy="932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exte de niveau I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657600" cy="126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mbulances du Maurin</a:t>
            </a: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857760" y="2786040"/>
            <a:ext cx="4724280" cy="3591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t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Évolutions du 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éveloppement d’une application autour de la base de donn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e en place d’une solution de géo-local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herche d’une 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stion du proj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4737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ivit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057320" cy="932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1079280" cy="930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107640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971640" y="4437000"/>
            <a:ext cx="990360" cy="125748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2409840" y="1989000"/>
            <a:ext cx="4610160" cy="1582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484360" y="3645000"/>
            <a:ext cx="45356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484360" y="3736440"/>
            <a:ext cx="4527720" cy="1420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81400">
            <a:off x="2483640" y="2133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 rot="20628600">
            <a:off x="2843640" y="414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man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40000" y="306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ort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s enjeux stratégiques 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méliorer les services rendus aux pati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ieux planifier le travail des employé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minuer les temps d’att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poser de moyens proportionnés aux besoi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gmenter le nombre de transpor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osante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rganisationnel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nticip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Régul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43480" y="1572840"/>
            <a:ext cx="3208680" cy="1120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hnologique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itement de l’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4076640"/>
            <a:ext cx="257796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éte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ationn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1834920" y="2781360"/>
            <a:ext cx="1081080" cy="143964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651280" y="2708280"/>
            <a:ext cx="108108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626920" y="4869000"/>
            <a:ext cx="3529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aint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mporelle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strei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Urgenc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91080" y="1388520"/>
            <a:ext cx="3921480" cy="1273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églementaires et contract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Équip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mps de trav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alification du personn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688000" y="4076640"/>
            <a:ext cx="345600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es de disponibilité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tériel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834920" y="2708280"/>
            <a:ext cx="115236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 flipV="1">
            <a:off x="5940000" y="2781000"/>
            <a:ext cx="792360" cy="136836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2626920" y="4869000"/>
            <a:ext cx="302436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5097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e mission 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appel [patient/Hopital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recueil informations sur le transport,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lenchement d’une 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’un de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 patient : mission de transpor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, ambulanc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demande mission par le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ontrôle des éléments de la mission et réalisation du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compte-rendu au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es documents de fin de mission (facture, transfert, etc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ganisation du planning hebdomadai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régulateur, ambulancier, institutionnels (Établissements sanitai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début période / absence / immobilisation véhic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MAJ du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résult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Planning mis à j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lutions applicativ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1250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Organisation du planning prévisionnel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- application tableur qui offre une vue « personnel » : constitution des équi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uivi des mission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– bdd pour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aisie des mi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ompte he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tatis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8:45:49Z</dcterms:created>
  <dc:creator>reseaucerta.org</dc:creator>
  <dc:description/>
  <dc:language>en-US</dc:language>
  <cp:lastModifiedBy>CD</cp:lastModifiedBy>
  <dcterms:modified xsi:type="dcterms:W3CDTF">2008-09-12T16:35:51Z</dcterms:modified>
  <cp:revision>21</cp:revision>
  <dc:subject/>
  <dc:title>Contexte de niveau I </dc:title>
</cp:coreProperties>
</file>