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A5BD-8A96-40E3-9334-5C7C4634C1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EC59-B427-4F8E-B7E8-D3C77849A05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903-6D74-426D-9DB6-433F819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357-CE6D-4745-AF90-7379C089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927-4EC2-4BA9-9D97-F5A73308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4DD-7043-47FA-AF0D-AEB8C307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35ED-3808-4827-86F5-2ADA25E9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E04F-A793-4DAD-8277-FD2BE0A6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45D7-7A8A-406A-BB5F-B4FF79C1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FDCC-252E-4756-9801-C4204119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1980-890E-4551-A6F4-B2FAFA93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B0AE-8932-4381-91DC-03C183D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F99-07F3-4DE7-B1CC-CEA8CDD3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F17-3298-426A-9328-25E09C4D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118C-7D07-4553-9267-43078AB3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E697-29D3-4504-BFC8-9393C5E6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576E-FCCB-4312-B5FB-0159206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A0D8-E64A-4E72-93FA-EF4A75F2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92F8-AC1E-4231-8786-A6BA60A8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C4B-DD79-43D2-A94A-AE7A292B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F68-406F-4793-9762-F7AF254C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B11-555E-4BE4-90BB-2C9BDE85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347-B049-48E5-B506-D1293EC7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E97-E8C6-429C-B9C9-5219E0E6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25F-A5A8-4056-AA38-CB293795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8C9-9470-45BC-9796-40018B2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A4C6-5730-4693-96EB-A5EA1681655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28a84"/>
                </a:gs>
                <a:gs pos="100000">
                  <a:srgbClr val="765e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S.Glénisson - Ac Orléans Tou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5C17-5F2D-43E7-B883-5449F26FFA4D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Fichier:LogoForclum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file://upload.wikimedia.org/wikipedia/fr/d/d7/Logo_IKEA.svg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Enseignement exploratoire</a:t>
            </a:r>
            <a:br>
              <a:rPr sz="4400"/>
            </a:br>
            <a:r>
              <a:rPr b="0" lang="fr-FR" sz="4400" spc="-1" strike="noStrike">
                <a:solidFill>
                  <a:srgbClr val="dddddd"/>
                </a:solidFill>
                <a:latin typeface="Arial"/>
              </a:rPr>
              <a:t>P.F.E.G.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gency FB"/>
              </a:rPr>
              <a:t>Relation avec la vie de la C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Espace réservé du pied de pag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8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épartition de la recherche d’informat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1052640"/>
          <a:ext cx="6480000" cy="5252760"/>
        </p:xfrm>
        <a:graphic>
          <a:graphicData uri="http://schemas.openxmlformats.org/drawingml/2006/table">
            <a:tbl>
              <a:tblPr/>
              <a:tblGrid>
                <a:gridCol w="3240000"/>
                <a:gridCol w="3240000"/>
              </a:tblGrid>
              <a:tr h="20772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HEM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LEV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Historiqu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nfiguration de la ville de Tou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roblématiques éventuelles à l’origine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1776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Financement du proj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s partenair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oût et sa réparti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log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24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économique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842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Objectifs fixé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Du point de vue sociét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ise en place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choix du tracé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analyse des quartiers traversés et des stations</a:t>
                      </a: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1588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générales concernant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658800"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Le chantier et la création du parc relai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- </a:t>
                      </a:r>
                      <a:r>
                        <a:rPr b="0" lang="fr-FR" sz="900" spc="-1" strike="noStrike" u="sng">
                          <a:solidFill>
                            <a:srgbClr val="54433f"/>
                          </a:solidFill>
                          <a:uFillTx/>
                          <a:latin typeface="Calibri"/>
                          <a:ea typeface="Calibri"/>
                        </a:rPr>
                        <a:t>les contraintes particulières à la création du parc relais et de la fin de ligne au lycée Jean Monn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667640" y="586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Tableau de collecte des informatio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36000" y="1039680"/>
            <a:ext cx="1390320" cy="981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492560" y="1301760"/>
            <a:ext cx="499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nnexe 1 : </a:t>
            </a:r>
            <a:r>
              <a:rPr b="1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Enjeux et contraintes de l’implantation du tram à T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065320"/>
          <a:ext cx="8229600" cy="4388040"/>
        </p:xfrm>
        <a:graphic>
          <a:graphicData uri="http://schemas.openxmlformats.org/drawingml/2006/table">
            <a:tbl>
              <a:tblPr/>
              <a:tblGrid>
                <a:gridCol w="3035160"/>
                <a:gridCol w="5194440"/>
              </a:tblGrid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les sont les problématiques écologiques, économiques et sociales spécifiques à la ville de Tour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acteurs interviennent dans la réalisation du projet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 est le coût prévisionnel du projet et comment se répartit le financement entre les différents partenaires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0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log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6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économique 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277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 soci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24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Quels sont les enjeux du tram d’un point de vu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sociétal 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3902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plusieurs problématiques de la ville de Tours qui ont justifié le choix du tracé de la première lig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Citez des contraintes géographiques, économiques, sociales et sociétales qui ont dû être prises en compte pour l’aménagement de la première ligne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587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En ce qui concerne l’abord du lycée Jean Monnet, précisez des exemples d’aménagements qui ont été mis en place pour faire face à certaines de ces contrainte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3b2f2c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13"/>
          <p:cNvSpPr/>
          <p:nvPr/>
        </p:nvSpPr>
        <p:spPr>
          <a:xfrm>
            <a:off x="457200" y="206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Scénario pédagogiqu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87280" y="1484280"/>
          <a:ext cx="6553440" cy="5164200"/>
        </p:xfrm>
        <a:graphic>
          <a:graphicData uri="http://schemas.openxmlformats.org/drawingml/2006/table">
            <a:tbl>
              <a:tblPr/>
              <a:tblGrid>
                <a:gridCol w="2295720"/>
                <a:gridCol w="4257720"/>
              </a:tblGrid>
              <a:tr h="3319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P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ES ELEV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3445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é-requis – introd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appel de la définition du développement durable (transversalité cours d’histoire-géographie).  Relations entre les différents acteurs économiqu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122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nalyse du projet du TRAM de Tours et réalisation d’un diaporama commu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- 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e répartir le travail à partir du tableau annexe 1 concernant les différentes questions abord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Rechercher sur Internet des informati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Transmettre les informations clés en vue de réaliser un diaporama aux élèves en charge du montage via l’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14018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ésentation des synthèses et prise de not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hase conceptualisa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ésentation des synthèses à l’oral à partir du diapora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sentation du diaporama par les élèves et prise de notes à partir d’un tableau (annexe 2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questionnement complémentaire à partir des points soulevés dans le tablea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premièr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enjeux écologiques, économiques et sociaux du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16826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é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echerche d’informations concernant les incitations gouvernementales pour d’autres projets dans le cadre du développement durable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H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Recherche d’informations et saisie des réponses à partir d’un tableau (annexe 3) – travail par deux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endre un exemple de projet concernant le développement durable pour un mén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Préciser les avantages fiscaux ou financiers que cela peut entraîne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Elaboration de la synthèse à partir des notes obten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change concernant les exemples obtenu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3b2f2c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construction commune de la synthèse concernant la </a:t>
                      </a:r>
                      <a:r>
                        <a:rPr b="0" lang="fr-FR" sz="800" spc="-1" strike="noStrike" u="sng">
                          <a:solidFill>
                            <a:srgbClr val="3b2f2c"/>
                          </a:solidFill>
                          <a:uFillTx/>
                          <a:latin typeface="Arial"/>
                        </a:rPr>
                        <a:t>seconde partie</a:t>
                      </a: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(incitations concernant les ménages et les entreprises pour le développement durable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81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valuation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Evaluation sommative complément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Analyse du tracé de la première lign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476440" y="1268280"/>
            <a:ext cx="4322880" cy="504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7451640" y="293760"/>
            <a:ext cx="1390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hoix pédagogiques opéré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Utilisation des T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Conception de synthèse sur support numér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ravail en rése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mplémentarité travail de groupe et travail individ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herche d’informations et montage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ésentation des informations à partir du diapor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change et ouverture lors de la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tions écr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rise de n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édaction de la synthè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9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ntraintes pédagogiques et risqu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aîtrise du « processus »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Quelles performances attendues ? Quelles évaluations ? Les « données entrantes » permettront-elles d’aboutir aux « données sortantes »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Nécessité de la transposition à d’autres environn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émarche qui doit permettre à l’élève de transposer les capacités développées à d’autres environnements. Importance de la phase conceptual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Mise en application de capacités comp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Recours à des aides méthodologiques pour certaines capacités (A.P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u temps et de la pro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Graduation de la complexité des activités en cours d’année scola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Gestion de classe et objectivité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La gestion de classe doit imposer la règle de l’objectivi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Rôle déterminant de l’évalu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5640" y="1197000"/>
          <a:ext cx="7488360" cy="5129280"/>
        </p:xfrm>
        <a:graphic>
          <a:graphicData uri="http://schemas.openxmlformats.org/drawingml/2006/table">
            <a:tbl>
              <a:tblPr/>
              <a:tblGrid>
                <a:gridCol w="6048360"/>
                <a:gridCol w="360360"/>
                <a:gridCol w="358920"/>
                <a:gridCol w="360360"/>
                <a:gridCol w="360360"/>
              </a:tblGrid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11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fonda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68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nalyser les données dans un artic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omprendre le sens des questions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épondre correctement à une question du point de vue du style et de la syntaxe. Corriger les fautes d’orthographe et d’accord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 vocabulaire économique et de ges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Rendre compte d’un travail donné devant un publi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dapter sa prise de parole (attitude et niveau de langue)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’écoute activ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articiper activement en respectant les interventions des autres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716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efficacement un moteur de recherche pour obtenir les informations attend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ynthétiser des données (textuelles, numériques et visuelles) en vue de construire un diaporama adapté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Utiliser les fonctionnalités du réseau pour un travail de group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liées au thè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907920">
                <a:tc>
                  <a:txBody>
                    <a:bodyPr lIns="41400" rIns="41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Percevoir les enjeux écologiques, économiques, sociaux et sociétaux d’un projet lié au développement durab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Déduire les contraintes que cela entraîne pour les différents acteurs économ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valuer les apports du développement durable à long term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A partir d’un exemple précis, indiquer les incitations qui peuvent être mises en place afin d’orienter les comportemen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14004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Capacités comportemental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Faire preuve de responsabilité et d’efficacité lors de la recherche d’informations et la production collective de supports numériqu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Etre autonome dans son travail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Savoir travailler en groupe de manière effica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54433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Manifester curiosité, créativité, motivation, à travers les activités proposé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</a:tr>
              <a:tr h="419760">
                <a:tc>
                  <a:txBody>
                    <a:bodyPr lIns="41400" rIns="41400" tIns="0" bIns="0" anchor="t">
                      <a:noAutofit/>
                    </a:bodyPr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Note sur 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gridSpan="4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54433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e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orts didactiques et éducatif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ropriation par l’élève de son environ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vier à un apprentissage actif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verture sur des problématiques économiques et de gestion donnant lieu à déb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édération d’analyses différentes dans le cadre d’un environnement comm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ibution de l’élève à l’alimentation du processus didac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"/>
              </a:rPr>
              <a:t>SOMMAIR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contexte éduca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rise en compte des environnements de l’élève dans la progression PF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 exemple d’application : le projet du tram de Tours (Thème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aintes pédagogiques et ris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pports de la déma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.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qui peut contribuer à mieux appréhender les nouveaux profils d’élè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pédagogie exigeante (?) mais surtout valorisante pour l’enseig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Sylvie Glénisson - Ac Orléans Tou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Lycée Jean Monnet</a:t>
            </a:r>
            <a:br>
              <a:rPr sz="4000"/>
            </a:br>
            <a:r>
              <a:rPr b="0" lang="fr-FR" sz="4000" spc="-1" strike="noStrike">
                <a:solidFill>
                  <a:srgbClr val="dddddd"/>
                </a:solidFill>
                <a:latin typeface="Arial"/>
              </a:rPr>
              <a:t>Joué-Lès-Tour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44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è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nement économique et so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Beauli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urbaine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Vallée Violet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rche du L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d’Enseignement Priorit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é Lès T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0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La Rabiè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René Cassi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AN M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péri urba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Albert Camus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BAZ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  Val de l’Indr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èges </a:t>
                      </a: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zay le Rideau et de Langea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s rur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Conditions d’enseigne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ffec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 groupes classes (élèves de 6 second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roupe de 26 élèves non dédoublé (voire 31 l’an dernie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rtains élèves du groupe peuvent avoir choisi en parallèle l’enseignement exploratoire 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Environnement maté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Équipement vidéo projecteur – accessibilité postes informatiques ponctue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Hor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h30 par semaine / année scolaire complè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EDAGOGIE ET </a:t>
            </a:r>
            <a:br>
              <a:rPr sz="3200"/>
            </a:b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ATRIMOINE DE PROXIMITE DE L’ELEVE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national et internationa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aits d’actualité économ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texte et problématiques de la cit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lyc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jet d’établissement, évènements lyc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Environnement familial et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blématiques spécifiques et vari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964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s acteurs créent la riches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e 8"/>
          <p:cNvGrpSpPr/>
          <p:nvPr/>
        </p:nvGrpSpPr>
        <p:grpSpPr>
          <a:xfrm>
            <a:off x="684360" y="2066760"/>
            <a:ext cx="3743280" cy="1467000"/>
            <a:chOff x="684360" y="2066760"/>
            <a:chExt cx="3743280" cy="1467000"/>
          </a:xfrm>
        </p:grpSpPr>
        <p:sp>
          <p:nvSpPr>
            <p:cNvPr id="120" name="Text Box 32"/>
            <p:cNvSpPr/>
            <p:nvPr/>
          </p:nvSpPr>
          <p:spPr>
            <a:xfrm>
              <a:off x="2412000" y="2066760"/>
              <a:ext cx="2015640" cy="14670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ondage besoins d’un élève de seco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Décision de fermeture de 3 collèges en Indre et L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2" descr="http://clg-arche-du-lude-joue-les-tours.tice.ac-orleans-tours.fr/php5/sobre_files/shapeimage_3.jpg"/>
            <p:cNvPicPr/>
            <p:nvPr/>
          </p:nvPicPr>
          <p:blipFill>
            <a:blip r:embed="rId1"/>
            <a:stretch/>
          </p:blipFill>
          <p:spPr>
            <a:xfrm>
              <a:off x="684360" y="2066760"/>
              <a:ext cx="1535760" cy="12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14"/>
          <p:cNvSpPr/>
          <p:nvPr/>
        </p:nvSpPr>
        <p:spPr>
          <a:xfrm>
            <a:off x="4643280" y="1413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’est-ce qu’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e 3"/>
          <p:cNvGrpSpPr/>
          <p:nvPr/>
        </p:nvGrpSpPr>
        <p:grpSpPr>
          <a:xfrm>
            <a:off x="4734000" y="2066760"/>
            <a:ext cx="3600360" cy="1592280"/>
            <a:chOff x="4734000" y="2066760"/>
            <a:chExt cx="3600360" cy="1592280"/>
          </a:xfrm>
        </p:grpSpPr>
        <p:pic>
          <p:nvPicPr>
            <p:cNvPr id="124" name="Picture 20" descr="Description de l'image  LogoForclum.gif.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46720" y="3290760"/>
              <a:ext cx="208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2"/>
            <p:cNvSpPr/>
            <p:nvPr/>
          </p:nvSpPr>
          <p:spPr>
            <a:xfrm>
              <a:off x="6389640" y="2066760"/>
              <a:ext cx="1871640" cy="946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765e58"/>
                  </a:solidFill>
                  <a:latin typeface="Arial"/>
                </a:rPr>
                <a:t>Analyse d’une entreprise locale effectuant des travaux au lycé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24" descr="L'entreprise jocondienne n'a pas encore modifié son nom sur ses façades."/>
            <p:cNvPicPr/>
            <p:nvPr/>
          </p:nvPicPr>
          <p:blipFill>
            <a:blip r:embed="rId4"/>
            <a:stretch/>
          </p:blipFill>
          <p:spPr>
            <a:xfrm>
              <a:off x="4734000" y="2327040"/>
              <a:ext cx="1439640" cy="12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3"/>
          <p:cNvSpPr/>
          <p:nvPr/>
        </p:nvSpPr>
        <p:spPr>
          <a:xfrm>
            <a:off x="468360" y="3303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ouverture internationale influence-t-elle le comportement de l’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e 1"/>
          <p:cNvGrpSpPr/>
          <p:nvPr/>
        </p:nvGrpSpPr>
        <p:grpSpPr>
          <a:xfrm>
            <a:off x="630360" y="4484520"/>
            <a:ext cx="3435120" cy="2055960"/>
            <a:chOff x="630360" y="4484520"/>
            <a:chExt cx="3435120" cy="2055960"/>
          </a:xfrm>
        </p:grpSpPr>
        <p:pic>
          <p:nvPicPr>
            <p:cNvPr id="129" name="Picture 16" descr="Fichier:Logo IKEA.sv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888840" y="4643280"/>
              <a:ext cx="16668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1"/>
            <p:cNvSpPr/>
            <p:nvPr/>
          </p:nvSpPr>
          <p:spPr>
            <a:xfrm>
              <a:off x="630360" y="5368680"/>
              <a:ext cx="194472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Impact implantation IKEA sur les concurrents loca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Simulation projet expor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Picture 23" descr=""/>
            <p:cNvPicPr/>
            <p:nvPr/>
          </p:nvPicPr>
          <p:blipFill>
            <a:blip r:embed="rId7"/>
            <a:stretch/>
          </p:blipFill>
          <p:spPr>
            <a:xfrm>
              <a:off x="2643120" y="4484520"/>
              <a:ext cx="96516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"/>
            <p:cNvPicPr/>
            <p:nvPr/>
          </p:nvPicPr>
          <p:blipFill>
            <a:blip r:embed="rId8"/>
            <a:stretch/>
          </p:blipFill>
          <p:spPr>
            <a:xfrm>
              <a:off x="2643120" y="5533920"/>
              <a:ext cx="1422360" cy="100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12"/>
          <p:cNvSpPr/>
          <p:nvPr/>
        </p:nvSpPr>
        <p:spPr>
          <a:xfrm>
            <a:off x="4424400" y="3438360"/>
            <a:ext cx="44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crée-t-elle de la valeur ajouté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e 32"/>
          <p:cNvGrpSpPr/>
          <p:nvPr/>
        </p:nvGrpSpPr>
        <p:grpSpPr>
          <a:xfrm>
            <a:off x="4643280" y="4184640"/>
            <a:ext cx="3826080" cy="2351160"/>
            <a:chOff x="4643280" y="4184640"/>
            <a:chExt cx="3826080" cy="2351160"/>
          </a:xfrm>
        </p:grpSpPr>
        <p:sp>
          <p:nvSpPr>
            <p:cNvPr id="135" name="Text Box 31"/>
            <p:cNvSpPr/>
            <p:nvPr/>
          </p:nvSpPr>
          <p:spPr>
            <a:xfrm>
              <a:off x="6524280" y="4869720"/>
              <a:ext cx="1945080" cy="110196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valeur ajoutée filière ameubl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Transposition jeu série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" name="Picture 29" descr="http://www.bebe-ethique.fr/components/com_virtuemart/shop_image/product/Catapulte_en_boi_4bddbc4fdfe4c.jpg"/>
            <p:cNvPicPr/>
            <p:nvPr/>
          </p:nvPicPr>
          <p:blipFill>
            <a:blip r:embed="rId9"/>
            <a:stretch/>
          </p:blipFill>
          <p:spPr>
            <a:xfrm>
              <a:off x="4680360" y="5513760"/>
              <a:ext cx="14749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1" descr="http://www.justacote.com/photos_entreprises/ikea-tours-1303822857.jpg"/>
            <p:cNvPicPr/>
            <p:nvPr/>
          </p:nvPicPr>
          <p:blipFill>
            <a:blip r:embed="rId10"/>
            <a:stretch/>
          </p:blipFill>
          <p:spPr>
            <a:xfrm>
              <a:off x="4643280" y="4184640"/>
              <a:ext cx="1519920" cy="119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Applications PFE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8520" y="119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fixe-t-elle le prix d’un produi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43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Quelles sont les relations entre les acteurs économique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8360" y="371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Développement durable : contrainte ou opportunité pour une entrepris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43280" y="1268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Comment l’entreprise se lance-t-elle sur un nouveau marché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e 2"/>
          <p:cNvGrpSpPr/>
          <p:nvPr/>
        </p:nvGrpSpPr>
        <p:grpSpPr>
          <a:xfrm>
            <a:off x="539640" y="4896000"/>
            <a:ext cx="3891240" cy="1277640"/>
            <a:chOff x="539640" y="4896000"/>
            <a:chExt cx="3891240" cy="1277640"/>
          </a:xfrm>
        </p:grpSpPr>
        <p:pic>
          <p:nvPicPr>
            <p:cNvPr id="144" name="Picture 18" descr=""/>
            <p:cNvPicPr/>
            <p:nvPr/>
          </p:nvPicPr>
          <p:blipFill>
            <a:blip r:embed="rId1"/>
            <a:stretch/>
          </p:blipFill>
          <p:spPr>
            <a:xfrm>
              <a:off x="539640" y="4896000"/>
              <a:ext cx="180036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31"/>
            <p:cNvSpPr/>
            <p:nvPr/>
          </p:nvSpPr>
          <p:spPr>
            <a:xfrm>
              <a:off x="2486160" y="5065560"/>
              <a:ext cx="1944720" cy="82404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Etude des objectifs et des contraintes du projet du tram à Tou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e 1"/>
          <p:cNvGrpSpPr/>
          <p:nvPr/>
        </p:nvGrpSpPr>
        <p:grpSpPr>
          <a:xfrm>
            <a:off x="458640" y="2060640"/>
            <a:ext cx="4046760" cy="1519200"/>
            <a:chOff x="458640" y="2060640"/>
            <a:chExt cx="4046760" cy="1519200"/>
          </a:xfrm>
        </p:grpSpPr>
        <p:pic>
          <p:nvPicPr>
            <p:cNvPr id="147" name="Picture 12" descr=""/>
            <p:cNvPicPr/>
            <p:nvPr/>
          </p:nvPicPr>
          <p:blipFill>
            <a:blip r:embed="rId2"/>
            <a:stretch/>
          </p:blipFill>
          <p:spPr>
            <a:xfrm>
              <a:off x="458640" y="2060640"/>
              <a:ext cx="202572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1"/>
            <p:cNvSpPr/>
            <p:nvPr/>
          </p:nvSpPr>
          <p:spPr>
            <a:xfrm>
              <a:off x="2560680" y="2219400"/>
              <a:ext cx="1944720" cy="11890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Analyse des entreprises d’élevage aviaire et de la fixation du prix des volailles en France et au Mal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e 3"/>
          <p:cNvGrpSpPr/>
          <p:nvPr/>
        </p:nvGrpSpPr>
        <p:grpSpPr>
          <a:xfrm>
            <a:off x="4808520" y="4896000"/>
            <a:ext cx="3867120" cy="1466640"/>
            <a:chOff x="4808520" y="4896000"/>
            <a:chExt cx="3867120" cy="1466640"/>
          </a:xfrm>
        </p:grpSpPr>
        <p:sp>
          <p:nvSpPr>
            <p:cNvPr id="150" name="Text Box 31"/>
            <p:cNvSpPr/>
            <p:nvPr/>
          </p:nvSpPr>
          <p:spPr>
            <a:xfrm>
              <a:off x="6730920" y="4935600"/>
              <a:ext cx="1944720" cy="137160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journalistique orale écrite (support numérique ou papier) d’un fait d’actualité à incidences économiqu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Picture 20" descr=""/>
            <p:cNvPicPr/>
            <p:nvPr/>
          </p:nvPicPr>
          <p:blipFill>
            <a:blip r:embed="rId3"/>
            <a:stretch/>
          </p:blipFill>
          <p:spPr>
            <a:xfrm>
              <a:off x="4808520" y="4896000"/>
              <a:ext cx="1792080" cy="14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AutoShape 20"/>
          <p:cNvSpPr/>
          <p:nvPr/>
        </p:nvSpPr>
        <p:spPr>
          <a:xfrm>
            <a:off x="63360" y="-62856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>
            <a:off x="216000" y="-476280"/>
            <a:ext cx="147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e 6"/>
          <p:cNvGrpSpPr/>
          <p:nvPr/>
        </p:nvGrpSpPr>
        <p:grpSpPr>
          <a:xfrm>
            <a:off x="5162400" y="1973160"/>
            <a:ext cx="3546720" cy="1900440"/>
            <a:chOff x="5162400" y="1973160"/>
            <a:chExt cx="3546720" cy="1900440"/>
          </a:xfrm>
        </p:grpSpPr>
        <p:sp>
          <p:nvSpPr>
            <p:cNvPr id="155" name="Text Box 31"/>
            <p:cNvSpPr/>
            <p:nvPr/>
          </p:nvSpPr>
          <p:spPr>
            <a:xfrm>
              <a:off x="6764040" y="2173680"/>
              <a:ext cx="1945080" cy="1284480"/>
            </a:xfrm>
            <a:prstGeom prst="rect">
              <a:avLst/>
            </a:prstGeom>
            <a:solidFill>
              <a:srgbClr val="dddddd"/>
            </a:solidFill>
            <a:ln w="15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Présentation d’une action commerciale B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71360" indent="-171360">
                <a:spcBef>
                  <a:spcPts val="751"/>
                </a:spcBef>
                <a:buClr>
                  <a:srgbClr val="765e5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765e58"/>
                  </a:solidFill>
                  <a:latin typeface="Arial"/>
                </a:rPr>
                <a:t>Création d’une cible à partir d’un réseau 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6" name="Picture 24" descr="http://noviseo.fr/wp-content/uploads/2012/03/facebook.jpg"/>
            <p:cNvPicPr/>
            <p:nvPr/>
          </p:nvPicPr>
          <p:blipFill>
            <a:blip r:embed="rId4"/>
            <a:stretch/>
          </p:blipFill>
          <p:spPr>
            <a:xfrm>
              <a:off x="5435280" y="3238920"/>
              <a:ext cx="101484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Image 29" descr="I:\Elèves BTS 2008\. 003.jpg"/>
            <p:cNvPicPr/>
            <p:nvPr/>
          </p:nvPicPr>
          <p:blipFill>
            <a:blip r:embed="rId5"/>
            <a:stretch/>
          </p:blipFill>
          <p:spPr>
            <a:xfrm>
              <a:off x="5162400" y="1973160"/>
              <a:ext cx="1428120" cy="119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Projet du tram de Tour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0000" y="1557360"/>
          <a:ext cx="7272360" cy="4683240"/>
        </p:xfrm>
        <a:graphic>
          <a:graphicData uri="http://schemas.openxmlformats.org/drawingml/2006/table">
            <a:tbl>
              <a:tblPr/>
              <a:tblGrid>
                <a:gridCol w="2100240"/>
                <a:gridCol w="5172120"/>
              </a:tblGrid>
              <a:tr h="100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ème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éveloppement durable : contrainte ou opportunité pour l’entrepris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lles sont les relations entre les acteurs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433f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Incitations, Rupture technologique, Choix sous contrai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2333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p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comment ce qui est perçu souvent comme une contrainte nouvelle peut devenir une opportunité de création de richesses. Dans une perspective à long terme, les relations entre les enjeux écologiques, économiques et sociaux seront mises en avant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On montrera que des incitations peuvent être mises en place afin d’orienter les comportements vers la prise en compte de contraintes, notamment écolog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s / Progr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4h30 (3 séquences) en fin d’année scolai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yens organisationne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Accessibilité internet et logiciel powerpoint pour le travail par deux ou trois (recherche informations, réalisation d’un diaporam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ae7"/>
                    </a:solidFill>
                  </a:tcPr>
                </a:tc>
              </a:tr>
              <a:tr h="268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868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3b2f2c"/>
                          </a:solidFill>
                          <a:latin typeface="Arial"/>
                        </a:rPr>
                        <a:t>Sommative   (grille annex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3cb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596360" y="79200"/>
            <a:ext cx="13903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Exploitation du patrimoine de proximité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29600" cy="73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4608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10:44Z</dcterms:created>
  <dc:creator>sylvie.glenisson</dc:creator>
  <dc:description/>
  <dc:language>en-US</dc:language>
  <cp:lastModifiedBy>Famille</cp:lastModifiedBy>
  <dcterms:modified xsi:type="dcterms:W3CDTF">2012-05-13T15:01:26Z</dcterms:modified>
  <cp:revision>78</cp:revision>
  <dc:subject/>
  <dc:title>Diapositive 1</dc:title>
</cp:coreProperties>
</file>